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wmf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wmf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543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数学广角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数与形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347840" y="249228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数学结合之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811440" cy="8114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447840" y="3711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3840" y="3927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3"/>
          <p:cNvSpPr/>
          <p:nvPr/>
        </p:nvSpPr>
        <p:spPr>
          <a:xfrm>
            <a:off x="826920" y="1484280"/>
            <a:ext cx="720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你能用所学知识解决下列问题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5"/>
          <p:cNvSpPr/>
          <p:nvPr/>
        </p:nvSpPr>
        <p:spPr>
          <a:xfrm>
            <a:off x="5832360" y="2421000"/>
            <a:ext cx="6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84360" y="3789360"/>
            <a:ext cx="8175600" cy="2560680"/>
            <a:chOff x="684360" y="3789360"/>
            <a:chExt cx="8175600" cy="2560680"/>
          </a:xfrm>
        </p:grpSpPr>
        <p:pic>
          <p:nvPicPr>
            <p:cNvPr id="614" name="" descr=""/>
            <p:cNvPicPr/>
            <p:nvPr/>
          </p:nvPicPr>
          <p:blipFill>
            <a:blip r:embed="rId2"/>
            <a:stretch/>
          </p:blipFill>
          <p:spPr>
            <a:xfrm>
              <a:off x="7452000" y="4365720"/>
              <a:ext cx="1407960" cy="18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AutoShape 27"/>
            <p:cNvSpPr/>
            <p:nvPr/>
          </p:nvSpPr>
          <p:spPr>
            <a:xfrm>
              <a:off x="684360" y="3789360"/>
              <a:ext cx="6624720" cy="2560680"/>
            </a:xfrm>
            <a:prstGeom prst="wedgeRoundRectCallout">
              <a:avLst>
                <a:gd name="adj1" fmla="val 55990"/>
                <a:gd name="adj2" fmla="val 58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TextBox 15"/>
          <p:cNvSpPr/>
          <p:nvPr/>
        </p:nvSpPr>
        <p:spPr>
          <a:xfrm>
            <a:off x="1042920" y="3862440"/>
            <a:ext cx="259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这样想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062000" y="4365720"/>
            <a:ext cx="1819080" cy="775440"/>
            <a:chOff x="1062000" y="4365720"/>
            <a:chExt cx="1819080" cy="775440"/>
          </a:xfrm>
        </p:grpSpPr>
        <p:grpSp>
          <p:nvGrpSpPr>
            <p:cNvPr id="618" name=""/>
            <p:cNvGrpSpPr/>
            <p:nvPr/>
          </p:nvGrpSpPr>
          <p:grpSpPr>
            <a:xfrm>
              <a:off x="1062000" y="4375080"/>
              <a:ext cx="504720" cy="766080"/>
              <a:chOff x="1062000" y="4375080"/>
              <a:chExt cx="504720" cy="766080"/>
            </a:xfrm>
          </p:grpSpPr>
          <p:sp>
            <p:nvSpPr>
              <p:cNvPr id="619" name=""/>
              <p:cNvSpPr/>
              <p:nvPr/>
            </p:nvSpPr>
            <p:spPr>
              <a:xfrm>
                <a:off x="1062000" y="43750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62000" y="4718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81080" y="47941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1414440" y="454464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76400" y="4534920"/>
              <a:ext cx="45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1728720" y="4365720"/>
              <a:ext cx="504720" cy="766080"/>
              <a:chOff x="1728720" y="4365720"/>
              <a:chExt cx="504720" cy="766080"/>
            </a:xfrm>
          </p:grpSpPr>
          <p:sp>
            <p:nvSpPr>
              <p:cNvPr id="625" name=""/>
              <p:cNvSpPr/>
              <p:nvPr/>
            </p:nvSpPr>
            <p:spPr>
              <a:xfrm>
                <a:off x="1728720" y="4365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728720" y="47088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47800" y="478476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76360" y="4365720"/>
              <a:ext cx="504720" cy="766080"/>
              <a:chOff x="2376360" y="4365720"/>
              <a:chExt cx="504720" cy="766080"/>
            </a:xfrm>
          </p:grpSpPr>
          <p:sp>
            <p:nvSpPr>
              <p:cNvPr id="629" name=""/>
              <p:cNvSpPr/>
              <p:nvPr/>
            </p:nvSpPr>
            <p:spPr>
              <a:xfrm>
                <a:off x="2376360" y="4365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76360" y="47088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395440" y="478476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"/>
          <p:cNvGrpSpPr/>
          <p:nvPr/>
        </p:nvGrpSpPr>
        <p:grpSpPr>
          <a:xfrm>
            <a:off x="4211640" y="4365720"/>
            <a:ext cx="1819080" cy="784800"/>
            <a:chOff x="4211640" y="4365720"/>
            <a:chExt cx="1819080" cy="784800"/>
          </a:xfrm>
        </p:grpSpPr>
        <p:grpSp>
          <p:nvGrpSpPr>
            <p:cNvPr id="633" name=""/>
            <p:cNvGrpSpPr/>
            <p:nvPr/>
          </p:nvGrpSpPr>
          <p:grpSpPr>
            <a:xfrm>
              <a:off x="4211640" y="4375080"/>
              <a:ext cx="504720" cy="766080"/>
              <a:chOff x="4211640" y="4375080"/>
              <a:chExt cx="504720" cy="766080"/>
            </a:xfrm>
          </p:grpSpPr>
          <p:sp>
            <p:nvSpPr>
              <p:cNvPr id="634" name=""/>
              <p:cNvSpPr/>
              <p:nvPr/>
            </p:nvSpPr>
            <p:spPr>
              <a:xfrm>
                <a:off x="4211640" y="43750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211640" y="4718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30720" y="47941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4564080" y="454464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54480" y="4534920"/>
              <a:ext cx="45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4783320" y="4372200"/>
              <a:ext cx="504720" cy="778320"/>
              <a:chOff x="4783320" y="4372200"/>
              <a:chExt cx="504720" cy="778320"/>
            </a:xfrm>
          </p:grpSpPr>
          <p:sp>
            <p:nvSpPr>
              <p:cNvPr id="640" name=""/>
              <p:cNvSpPr/>
              <p:nvPr/>
            </p:nvSpPr>
            <p:spPr>
              <a:xfrm>
                <a:off x="4783320" y="4727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72240" y="4372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849920" y="4790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5526000" y="4365720"/>
              <a:ext cx="504720" cy="778680"/>
              <a:chOff x="5526000" y="4365720"/>
              <a:chExt cx="504720" cy="778680"/>
            </a:xfrm>
          </p:grpSpPr>
          <p:sp>
            <p:nvSpPr>
              <p:cNvPr id="644" name=""/>
              <p:cNvSpPr/>
              <p:nvPr/>
            </p:nvSpPr>
            <p:spPr>
              <a:xfrm>
                <a:off x="5526000" y="4721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533920" y="4365720"/>
                <a:ext cx="476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592600" y="4784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7" name=""/>
          <p:cNvGrpSpPr/>
          <p:nvPr/>
        </p:nvGrpSpPr>
        <p:grpSpPr>
          <a:xfrm>
            <a:off x="1006560" y="5302080"/>
            <a:ext cx="1981080" cy="778680"/>
            <a:chOff x="1006560" y="5302080"/>
            <a:chExt cx="1981080" cy="778680"/>
          </a:xfrm>
        </p:grpSpPr>
        <p:grpSp>
          <p:nvGrpSpPr>
            <p:cNvPr id="648" name=""/>
            <p:cNvGrpSpPr/>
            <p:nvPr/>
          </p:nvGrpSpPr>
          <p:grpSpPr>
            <a:xfrm>
              <a:off x="1720800" y="5302080"/>
              <a:ext cx="504720" cy="778680"/>
              <a:chOff x="1720800" y="5302080"/>
              <a:chExt cx="504720" cy="778680"/>
            </a:xfrm>
          </p:grpSpPr>
          <p:sp>
            <p:nvSpPr>
              <p:cNvPr id="649" name=""/>
              <p:cNvSpPr/>
              <p:nvPr/>
            </p:nvSpPr>
            <p:spPr>
              <a:xfrm>
                <a:off x="1720800" y="56577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809720" y="5302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787400" y="5721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006560" y="5302080"/>
              <a:ext cx="504720" cy="778680"/>
              <a:chOff x="1006560" y="5302080"/>
              <a:chExt cx="504720" cy="778680"/>
            </a:xfrm>
          </p:grpSpPr>
          <p:sp>
            <p:nvSpPr>
              <p:cNvPr id="653" name=""/>
              <p:cNvSpPr/>
              <p:nvPr/>
            </p:nvSpPr>
            <p:spPr>
              <a:xfrm>
                <a:off x="1006560" y="56577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014480" y="5302080"/>
                <a:ext cx="476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73160" y="5721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447920" y="547128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11400" y="5471280"/>
              <a:ext cx="45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482920" y="5302080"/>
              <a:ext cx="504720" cy="778680"/>
              <a:chOff x="2482920" y="5302080"/>
              <a:chExt cx="504720" cy="778680"/>
            </a:xfrm>
          </p:grpSpPr>
          <p:sp>
            <p:nvSpPr>
              <p:cNvPr id="659" name=""/>
              <p:cNvSpPr/>
              <p:nvPr/>
            </p:nvSpPr>
            <p:spPr>
              <a:xfrm>
                <a:off x="2482920" y="56577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490840" y="5302080"/>
                <a:ext cx="476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549520" y="5721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3232080" y="5445000"/>
            <a:ext cx="637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547640" y="2276640"/>
            <a:ext cx="4392720" cy="1395000"/>
            <a:chOff x="1547640" y="2276640"/>
            <a:chExt cx="4392720" cy="1395000"/>
          </a:xfrm>
        </p:grpSpPr>
        <p:grpSp>
          <p:nvGrpSpPr>
            <p:cNvPr id="664" name=""/>
            <p:cNvGrpSpPr/>
            <p:nvPr/>
          </p:nvGrpSpPr>
          <p:grpSpPr>
            <a:xfrm>
              <a:off x="1547640" y="2276640"/>
              <a:ext cx="4029480" cy="1073520"/>
              <a:chOff x="1547640" y="2276640"/>
              <a:chExt cx="4029480" cy="107352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1547640" y="2276640"/>
                <a:ext cx="504720" cy="1073520"/>
                <a:chOff x="1547640" y="2276640"/>
                <a:chExt cx="504720" cy="10735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1547640" y="2276640"/>
                  <a:ext cx="5047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547640" y="2708280"/>
                  <a:ext cx="360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571400" y="2845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232080" y="2276640"/>
                <a:ext cx="790560" cy="1073520"/>
                <a:chOff x="3232080" y="2276640"/>
                <a:chExt cx="790560" cy="10735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348000" y="2276640"/>
                  <a:ext cx="5047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232080" y="2708280"/>
                  <a:ext cx="790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27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286080" y="2853000"/>
                  <a:ext cx="50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2411280" y="2276640"/>
                <a:ext cx="504720" cy="1073520"/>
                <a:chOff x="2411280" y="2276640"/>
                <a:chExt cx="504720" cy="107352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2411280" y="2276640"/>
                  <a:ext cx="5047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411280" y="2708280"/>
                  <a:ext cx="360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435040" y="2845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4168440" y="2276640"/>
                <a:ext cx="790560" cy="1073520"/>
                <a:chOff x="4168440" y="2276640"/>
                <a:chExt cx="790560" cy="10735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4274640" y="2276640"/>
                  <a:ext cx="5050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168440" y="2708280"/>
                  <a:ext cx="790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81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222440" y="2853000"/>
                  <a:ext cx="50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5015520" y="2421000"/>
                <a:ext cx="5616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908000" y="275580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71640" y="2481840"/>
              <a:ext cx="3603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06560" y="275580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55880" y="275400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64000" y="250020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矩形 21"/>
          <p:cNvSpPr/>
          <p:nvPr/>
        </p:nvSpPr>
        <p:spPr>
          <a:xfrm>
            <a:off x="4619880" y="5492880"/>
            <a:ext cx="162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原式的结果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运用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2"/>
          <p:cNvSpPr/>
          <p:nvPr/>
        </p:nvSpPr>
        <p:spPr>
          <a:xfrm>
            <a:off x="3780000" y="5734080"/>
            <a:ext cx="536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答：小刚一共下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盘，分别和小林、小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"/>
          <p:cNvSpPr/>
          <p:nvPr/>
        </p:nvSpPr>
        <p:spPr>
          <a:xfrm>
            <a:off x="1593720" y="436104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9"/>
          <p:cNvSpPr/>
          <p:nvPr/>
        </p:nvSpPr>
        <p:spPr>
          <a:xfrm>
            <a:off x="492120" y="515772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0"/>
          <p:cNvSpPr/>
          <p:nvPr/>
        </p:nvSpPr>
        <p:spPr>
          <a:xfrm>
            <a:off x="1009800" y="6032520"/>
            <a:ext cx="1285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1"/>
          <p:cNvSpPr/>
          <p:nvPr/>
        </p:nvSpPr>
        <p:spPr>
          <a:xfrm>
            <a:off x="2529000" y="606600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2"/>
          <p:cNvSpPr/>
          <p:nvPr/>
        </p:nvSpPr>
        <p:spPr>
          <a:xfrm>
            <a:off x="2879640" y="515772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3"/>
          <p:cNvSpPr/>
          <p:nvPr/>
        </p:nvSpPr>
        <p:spPr>
          <a:xfrm>
            <a:off x="2195640" y="414972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4"/>
          <p:cNvSpPr/>
          <p:nvPr/>
        </p:nvSpPr>
        <p:spPr>
          <a:xfrm>
            <a:off x="366840" y="496080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5"/>
          <p:cNvSpPr/>
          <p:nvPr/>
        </p:nvSpPr>
        <p:spPr>
          <a:xfrm>
            <a:off x="826920" y="622764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6"/>
          <p:cNvSpPr/>
          <p:nvPr/>
        </p:nvSpPr>
        <p:spPr>
          <a:xfrm>
            <a:off x="3502080" y="5040360"/>
            <a:ext cx="1285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7"/>
          <p:cNvSpPr/>
          <p:nvPr/>
        </p:nvSpPr>
        <p:spPr>
          <a:xfrm>
            <a:off x="3143160" y="6280200"/>
            <a:ext cx="128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21"/>
          <p:cNvSpPr/>
          <p:nvPr/>
        </p:nvSpPr>
        <p:spPr>
          <a:xfrm>
            <a:off x="1135080" y="5459400"/>
            <a:ext cx="1393920" cy="76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4"/>
          <p:cNvSpPr/>
          <p:nvPr/>
        </p:nvSpPr>
        <p:spPr>
          <a:xfrm>
            <a:off x="1135080" y="5388120"/>
            <a:ext cx="174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24"/>
          <p:cNvSpPr/>
          <p:nvPr/>
        </p:nvSpPr>
        <p:spPr>
          <a:xfrm flipV="1">
            <a:off x="1052640" y="4773600"/>
            <a:ext cx="725400" cy="50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接连接符 26"/>
          <p:cNvSpPr/>
          <p:nvPr/>
        </p:nvSpPr>
        <p:spPr>
          <a:xfrm>
            <a:off x="915840" y="5618160"/>
            <a:ext cx="249480" cy="44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25"/>
          <p:cNvSpPr/>
          <p:nvPr/>
        </p:nvSpPr>
        <p:spPr>
          <a:xfrm flipV="1">
            <a:off x="1414440" y="4773600"/>
            <a:ext cx="593640" cy="1292400"/>
          </a:xfrm>
          <a:prstGeom prst="line">
            <a:avLst/>
          </a:prstGeom>
          <a:ln w="381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3"/>
          <p:cNvSpPr/>
          <p:nvPr/>
        </p:nvSpPr>
        <p:spPr>
          <a:xfrm>
            <a:off x="1652760" y="6296040"/>
            <a:ext cx="758520" cy="0"/>
          </a:xfrm>
          <a:prstGeom prst="line">
            <a:avLst/>
          </a:prstGeom>
          <a:ln w="38160">
            <a:solidFill>
              <a:srgbClr val="6b6b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11280" y="1484280"/>
            <a:ext cx="5905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林、小强、小芳、小兵和小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进行象棋 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赛，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之间都要下一盘。小林已经下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强下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盘，小芳下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盘，小兵下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盘。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：小刚一共下了几盘？分别和谁下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3886200" y="1700280"/>
            <a:ext cx="5257800" cy="317016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27"/>
          <p:cNvSpPr/>
          <p:nvPr/>
        </p:nvSpPr>
        <p:spPr>
          <a:xfrm>
            <a:off x="1763640" y="3284640"/>
            <a:ext cx="2016360" cy="792000"/>
          </a:xfrm>
          <a:prstGeom prst="wedgeRoundRectCallout">
            <a:avLst>
              <a:gd name="adj1" fmla="val -61652"/>
              <a:gd name="adj2" fmla="val 871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连线的方法试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20" descr="男天使副本"/>
          <p:cNvPicPr/>
          <p:nvPr/>
        </p:nvPicPr>
        <p:blipFill>
          <a:blip r:embed="rId3"/>
          <a:stretch/>
        </p:blipFill>
        <p:spPr>
          <a:xfrm>
            <a:off x="395280" y="290844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运用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5"/>
          <p:cNvSpPr/>
          <p:nvPr/>
        </p:nvSpPr>
        <p:spPr>
          <a:xfrm>
            <a:off x="611280" y="2205000"/>
            <a:ext cx="7416720" cy="18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十二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302520" y="2838600"/>
            <a:ext cx="790560" cy="1073520"/>
            <a:chOff x="6302520" y="2838600"/>
            <a:chExt cx="790560" cy="1073520"/>
          </a:xfrm>
        </p:grpSpPr>
        <p:sp>
          <p:nvSpPr>
            <p:cNvPr id="49" name=""/>
            <p:cNvSpPr/>
            <p:nvPr/>
          </p:nvSpPr>
          <p:spPr>
            <a:xfrm>
              <a:off x="6411960" y="283860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02520" y="327024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84960" y="3414960"/>
              <a:ext cx="505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71640" y="2781360"/>
            <a:ext cx="1799640" cy="1073520"/>
            <a:chOff x="971640" y="2781360"/>
            <a:chExt cx="1799640" cy="1073520"/>
          </a:xfrm>
        </p:grpSpPr>
        <p:grpSp>
          <p:nvGrpSpPr>
            <p:cNvPr id="53" name=""/>
            <p:cNvGrpSpPr/>
            <p:nvPr/>
          </p:nvGrpSpPr>
          <p:grpSpPr>
            <a:xfrm>
              <a:off x="971640" y="2781360"/>
              <a:ext cx="504360" cy="1073520"/>
              <a:chOff x="971640" y="2781360"/>
              <a:chExt cx="504360" cy="1073520"/>
            </a:xfrm>
          </p:grpSpPr>
          <p:sp>
            <p:nvSpPr>
              <p:cNvPr id="54" name=""/>
              <p:cNvSpPr/>
              <p:nvPr/>
            </p:nvSpPr>
            <p:spPr>
              <a:xfrm>
                <a:off x="971640" y="2781360"/>
                <a:ext cx="504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71640" y="321300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95040" y="33498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1383480" y="2975040"/>
              <a:ext cx="508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1763280" y="2781360"/>
              <a:ext cx="504720" cy="1073520"/>
              <a:chOff x="1763280" y="2781360"/>
              <a:chExt cx="504720" cy="1073520"/>
            </a:xfrm>
          </p:grpSpPr>
          <p:sp>
            <p:nvSpPr>
              <p:cNvPr id="59" name=""/>
              <p:cNvSpPr/>
              <p:nvPr/>
            </p:nvSpPr>
            <p:spPr>
              <a:xfrm>
                <a:off x="1763280" y="27813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3280" y="321300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87040" y="3349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123640" y="295884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627280" y="2781360"/>
            <a:ext cx="504720" cy="1073520"/>
            <a:chOff x="2627280" y="2781360"/>
            <a:chExt cx="504720" cy="1073520"/>
          </a:xfrm>
        </p:grpSpPr>
        <p:sp>
          <p:nvSpPr>
            <p:cNvPr id="64" name=""/>
            <p:cNvSpPr/>
            <p:nvPr/>
          </p:nvSpPr>
          <p:spPr>
            <a:xfrm>
              <a:off x="2627280" y="2781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27280" y="321300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51040" y="33498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16360" y="2852640"/>
            <a:ext cx="1800360" cy="1073520"/>
            <a:chOff x="4716360" y="2852640"/>
            <a:chExt cx="1800360" cy="1073520"/>
          </a:xfrm>
        </p:grpSpPr>
        <p:grpSp>
          <p:nvGrpSpPr>
            <p:cNvPr id="68" name=""/>
            <p:cNvGrpSpPr/>
            <p:nvPr/>
          </p:nvGrpSpPr>
          <p:grpSpPr>
            <a:xfrm>
              <a:off x="4716360" y="2852640"/>
              <a:ext cx="504720" cy="1073520"/>
              <a:chOff x="4716360" y="2852640"/>
              <a:chExt cx="504720" cy="1073520"/>
            </a:xfrm>
          </p:grpSpPr>
          <p:sp>
            <p:nvSpPr>
              <p:cNvPr id="69" name=""/>
              <p:cNvSpPr/>
              <p:nvPr/>
            </p:nvSpPr>
            <p:spPr>
              <a:xfrm>
                <a:off x="4716360" y="28526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16360" y="328428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40120" y="3421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5127120" y="3046320"/>
              <a:ext cx="508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508360" y="2852640"/>
              <a:ext cx="504720" cy="1073520"/>
              <a:chOff x="5508360" y="2852640"/>
              <a:chExt cx="504720" cy="1073520"/>
            </a:xfrm>
          </p:grpSpPr>
          <p:sp>
            <p:nvSpPr>
              <p:cNvPr id="74" name=""/>
              <p:cNvSpPr/>
              <p:nvPr/>
            </p:nvSpPr>
            <p:spPr>
              <a:xfrm>
                <a:off x="5508360" y="28526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08360" y="328428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32120" y="3421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868720" y="3030120"/>
              <a:ext cx="648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971640" y="4437000"/>
            <a:ext cx="1873080" cy="1121040"/>
            <a:chOff x="971640" y="4437000"/>
            <a:chExt cx="1873080" cy="1121040"/>
          </a:xfrm>
        </p:grpSpPr>
        <p:sp>
          <p:nvSpPr>
            <p:cNvPr id="79" name=""/>
            <p:cNvSpPr/>
            <p:nvPr/>
          </p:nvSpPr>
          <p:spPr>
            <a:xfrm>
              <a:off x="1836720" y="443700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86864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74800" y="501336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971640" y="4437000"/>
              <a:ext cx="504720" cy="1073520"/>
              <a:chOff x="971640" y="4437000"/>
              <a:chExt cx="504720" cy="1073520"/>
            </a:xfrm>
          </p:grpSpPr>
          <p:sp>
            <p:nvSpPr>
              <p:cNvPr id="83" name=""/>
              <p:cNvSpPr/>
              <p:nvPr/>
            </p:nvSpPr>
            <p:spPr>
              <a:xfrm>
                <a:off x="971640" y="443700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71640" y="486864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5400" y="5005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258920" y="491616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68720" y="4636800"/>
              <a:ext cx="5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700360" y="4437000"/>
            <a:ext cx="790560" cy="1072080"/>
            <a:chOff x="2700360" y="4437000"/>
            <a:chExt cx="790560" cy="1072080"/>
          </a:xfrm>
        </p:grpSpPr>
        <p:sp>
          <p:nvSpPr>
            <p:cNvPr id="89" name=""/>
            <p:cNvSpPr/>
            <p:nvPr/>
          </p:nvSpPr>
          <p:spPr>
            <a:xfrm>
              <a:off x="2811600" y="443700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00360" y="486720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71640" y="5013360"/>
              <a:ext cx="505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091280" y="4443480"/>
            <a:ext cx="504720" cy="1073520"/>
            <a:chOff x="7091280" y="4443480"/>
            <a:chExt cx="504720" cy="1073520"/>
          </a:xfrm>
        </p:grpSpPr>
        <p:sp>
          <p:nvSpPr>
            <p:cNvPr id="93" name=""/>
            <p:cNvSpPr/>
            <p:nvPr/>
          </p:nvSpPr>
          <p:spPr>
            <a:xfrm>
              <a:off x="7091280" y="444348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91280" y="487512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95960" y="501192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16360" y="4437000"/>
            <a:ext cx="2519280" cy="1081440"/>
            <a:chOff x="4716360" y="4437000"/>
            <a:chExt cx="2519280" cy="1081440"/>
          </a:xfrm>
        </p:grpSpPr>
        <p:grpSp>
          <p:nvGrpSpPr>
            <p:cNvPr id="97" name=""/>
            <p:cNvGrpSpPr/>
            <p:nvPr/>
          </p:nvGrpSpPr>
          <p:grpSpPr>
            <a:xfrm>
              <a:off x="4716360" y="4444920"/>
              <a:ext cx="504720" cy="1073520"/>
              <a:chOff x="4716360" y="4444920"/>
              <a:chExt cx="504720" cy="1073520"/>
            </a:xfrm>
          </p:grpSpPr>
          <p:sp>
            <p:nvSpPr>
              <p:cNvPr id="98" name=""/>
              <p:cNvSpPr/>
              <p:nvPr/>
            </p:nvSpPr>
            <p:spPr>
              <a:xfrm>
                <a:off x="4716360" y="44449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716360" y="487656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40120" y="5013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127120" y="4638600"/>
              <a:ext cx="508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08360" y="4444920"/>
              <a:ext cx="504720" cy="1073520"/>
              <a:chOff x="5508360" y="4444920"/>
              <a:chExt cx="504720" cy="1073520"/>
            </a:xfrm>
          </p:grpSpPr>
          <p:sp>
            <p:nvSpPr>
              <p:cNvPr id="103" name=""/>
              <p:cNvSpPr/>
              <p:nvPr/>
            </p:nvSpPr>
            <p:spPr>
              <a:xfrm>
                <a:off x="5508360" y="44449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508360" y="487656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32120" y="5013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588000" y="463356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298920" y="4437000"/>
              <a:ext cx="504720" cy="1073520"/>
              <a:chOff x="6298920" y="4437000"/>
              <a:chExt cx="504720" cy="1073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298920" y="443700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98920" y="486864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22680" y="5005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919480" y="4652640"/>
              <a:ext cx="508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20" descr="男天使副本"/>
          <p:cNvPicPr/>
          <p:nvPr/>
        </p:nvPicPr>
        <p:blipFill>
          <a:blip r:embed="rId2"/>
          <a:stretch/>
        </p:blipFill>
        <p:spPr>
          <a:xfrm>
            <a:off x="506520" y="1413000"/>
            <a:ext cx="1471680" cy="14144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7"/>
          <p:cNvSpPr/>
          <p:nvPr/>
        </p:nvSpPr>
        <p:spPr>
          <a:xfrm>
            <a:off x="2268360" y="1844640"/>
            <a:ext cx="2016360" cy="576360"/>
          </a:xfrm>
          <a:prstGeom prst="wedgeRoundRectCallout">
            <a:avLst>
              <a:gd name="adj1" fmla="val -62754"/>
              <a:gd name="adj2" fmla="val 3980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算出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7840" y="3711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3840" y="3927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9480" y="41432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5480" y="43592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502000" y="1268280"/>
            <a:ext cx="5094000" cy="1143360"/>
            <a:chOff x="2502000" y="1268280"/>
            <a:chExt cx="5094000" cy="1143360"/>
          </a:xfrm>
        </p:grpSpPr>
        <p:sp>
          <p:nvSpPr>
            <p:cNvPr id="120" name=""/>
            <p:cNvSpPr/>
            <p:nvPr/>
          </p:nvSpPr>
          <p:spPr>
            <a:xfrm>
              <a:off x="5737320" y="126828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502000" y="1268280"/>
              <a:ext cx="503280" cy="1073520"/>
              <a:chOff x="2502000" y="1268280"/>
              <a:chExt cx="503280" cy="1073520"/>
            </a:xfrm>
          </p:grpSpPr>
          <p:sp>
            <p:nvSpPr>
              <p:cNvPr id="122" name=""/>
              <p:cNvSpPr/>
              <p:nvPr/>
            </p:nvSpPr>
            <p:spPr>
              <a:xfrm>
                <a:off x="2502000" y="1268280"/>
                <a:ext cx="503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02000" y="1699920"/>
                <a:ext cx="359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25400" y="1836720"/>
                <a:ext cx="35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710400" y="126828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259080" y="1279440"/>
              <a:ext cx="504720" cy="1073520"/>
              <a:chOff x="3259080" y="1279440"/>
              <a:chExt cx="504720" cy="1073520"/>
            </a:xfrm>
          </p:grpSpPr>
          <p:sp>
            <p:nvSpPr>
              <p:cNvPr id="127" name=""/>
              <p:cNvSpPr/>
              <p:nvPr/>
            </p:nvSpPr>
            <p:spPr>
              <a:xfrm>
                <a:off x="3259080" y="12794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59080" y="171108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82840" y="1847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010040" y="1274760"/>
              <a:ext cx="504720" cy="1073520"/>
              <a:chOff x="4010040" y="1274760"/>
              <a:chExt cx="504720" cy="1073520"/>
            </a:xfrm>
          </p:grpSpPr>
          <p:sp>
            <p:nvSpPr>
              <p:cNvPr id="131" name=""/>
              <p:cNvSpPr/>
              <p:nvPr/>
            </p:nvSpPr>
            <p:spPr>
              <a:xfrm>
                <a:off x="4010040" y="12747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10040" y="170640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33800" y="1843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873680" y="126828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791080" y="1711440"/>
              <a:ext cx="4804920" cy="700200"/>
              <a:chOff x="2791080" y="1711440"/>
              <a:chExt cx="4804920" cy="700200"/>
            </a:xfrm>
          </p:grpSpPr>
          <p:sp>
            <p:nvSpPr>
              <p:cNvPr id="136" name=""/>
              <p:cNvSpPr/>
              <p:nvPr/>
            </p:nvSpPr>
            <p:spPr>
              <a:xfrm>
                <a:off x="5593680" y="171144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77560" y="185580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91080" y="175860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00960" y="171144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85200" y="185580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48160" y="176976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18200" y="176976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31840" y="171144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15720" y="185580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29360" y="176976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74720" y="176508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165080" y="176976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7596360" y="1500120"/>
            <a:ext cx="1725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2781360"/>
            <a:ext cx="4464000" cy="1203120"/>
            <a:chOff x="539640" y="2781360"/>
            <a:chExt cx="4464000" cy="1203120"/>
          </a:xfrm>
        </p:grpSpPr>
        <p:pic>
          <p:nvPicPr>
            <p:cNvPr id="150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539640" y="2781360"/>
              <a:ext cx="1297080" cy="12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27"/>
            <p:cNvSpPr/>
            <p:nvPr/>
          </p:nvSpPr>
          <p:spPr>
            <a:xfrm>
              <a:off x="1908000" y="2925360"/>
              <a:ext cx="3095640" cy="576000"/>
            </a:xfrm>
            <a:prstGeom prst="wedgeRoundRectCallout">
              <a:avLst>
                <a:gd name="adj1" fmla="val -55949"/>
                <a:gd name="adj2" fmla="val 48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你能发现什么规律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76720" y="4365720"/>
            <a:ext cx="4319640" cy="1657080"/>
            <a:chOff x="3276720" y="4365720"/>
            <a:chExt cx="4319640" cy="165708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6443640" y="4365720"/>
              <a:ext cx="1152720" cy="165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3276720" y="4897080"/>
              <a:ext cx="3095640" cy="1035000"/>
              <a:chOff x="3276720" y="4897080"/>
              <a:chExt cx="3095640" cy="1035000"/>
            </a:xfrm>
          </p:grpSpPr>
          <p:sp>
            <p:nvSpPr>
              <p:cNvPr id="155" name="AutoShape 27"/>
              <p:cNvSpPr/>
              <p:nvPr/>
            </p:nvSpPr>
            <p:spPr>
              <a:xfrm>
                <a:off x="3276720" y="4897080"/>
                <a:ext cx="3095640" cy="1035000"/>
              </a:xfrm>
              <a:prstGeom prst="wedgeRoundRectCallout">
                <a:avLst>
                  <a:gd name="adj1" fmla="val 56101"/>
                  <a:gd name="adj2" fmla="val -2960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从第二个数开始，每个数是前一个数的    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5364360" y="5213160"/>
                <a:ext cx="504720" cy="697320"/>
                <a:chOff x="5364360" y="5213160"/>
                <a:chExt cx="504720" cy="6973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364360" y="54874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64360" y="52131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64360" y="56095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" name=""/>
          <p:cNvGrpSpPr/>
          <p:nvPr/>
        </p:nvGrpSpPr>
        <p:grpSpPr>
          <a:xfrm>
            <a:off x="528120" y="2708280"/>
            <a:ext cx="4548600" cy="2376360"/>
            <a:chOff x="528120" y="2708280"/>
            <a:chExt cx="4548600" cy="23763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 flipH="1">
              <a:off x="528120" y="3139920"/>
              <a:ext cx="12351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27"/>
            <p:cNvSpPr/>
            <p:nvPr/>
          </p:nvSpPr>
          <p:spPr>
            <a:xfrm>
              <a:off x="1763640" y="2708280"/>
              <a:ext cx="3313080" cy="1657440"/>
            </a:xfrm>
            <a:prstGeom prst="wedgeRoundRectCallout">
              <a:avLst>
                <a:gd name="adj1" fmla="val -57763"/>
                <a:gd name="adj2" fmla="val 158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一个一个加下去看看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答案好像有点规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580000" y="2465280"/>
            <a:ext cx="2160360" cy="1073520"/>
            <a:chOff x="5580000" y="2465280"/>
            <a:chExt cx="2160360" cy="1073520"/>
          </a:xfrm>
        </p:grpSpPr>
        <p:grpSp>
          <p:nvGrpSpPr>
            <p:cNvPr id="164" name=""/>
            <p:cNvGrpSpPr/>
            <p:nvPr/>
          </p:nvGrpSpPr>
          <p:grpSpPr>
            <a:xfrm>
              <a:off x="5580000" y="2465280"/>
              <a:ext cx="504720" cy="1073520"/>
              <a:chOff x="5580000" y="2465280"/>
              <a:chExt cx="504720" cy="1073520"/>
            </a:xfrm>
          </p:grpSpPr>
          <p:sp>
            <p:nvSpPr>
              <p:cNvPr id="165" name=""/>
              <p:cNvSpPr/>
              <p:nvPr/>
            </p:nvSpPr>
            <p:spPr>
              <a:xfrm>
                <a:off x="5580000" y="2465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80000" y="289692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03760" y="3033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994000" y="2680920"/>
              <a:ext cx="508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372000" y="2465280"/>
              <a:ext cx="504720" cy="1073520"/>
              <a:chOff x="6372000" y="2465280"/>
              <a:chExt cx="504720" cy="1073520"/>
            </a:xfrm>
          </p:grpSpPr>
          <p:sp>
            <p:nvSpPr>
              <p:cNvPr id="170" name=""/>
              <p:cNvSpPr/>
              <p:nvPr/>
            </p:nvSpPr>
            <p:spPr>
              <a:xfrm>
                <a:off x="6372000" y="2465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72000" y="289692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95760" y="3033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6732360" y="2642760"/>
              <a:ext cx="648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235640" y="2465280"/>
              <a:ext cx="504720" cy="1073520"/>
              <a:chOff x="7235640" y="2465280"/>
              <a:chExt cx="504720" cy="1073520"/>
            </a:xfrm>
          </p:grpSpPr>
          <p:sp>
            <p:nvSpPr>
              <p:cNvPr id="175" name=""/>
              <p:cNvSpPr/>
              <p:nvPr/>
            </p:nvSpPr>
            <p:spPr>
              <a:xfrm>
                <a:off x="7235640" y="2465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35640" y="289692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259400" y="3033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5580000" y="3400560"/>
            <a:ext cx="2160360" cy="1073520"/>
            <a:chOff x="5580000" y="3400560"/>
            <a:chExt cx="2160360" cy="1073520"/>
          </a:xfrm>
        </p:grpSpPr>
        <p:grpSp>
          <p:nvGrpSpPr>
            <p:cNvPr id="179" name=""/>
            <p:cNvGrpSpPr/>
            <p:nvPr/>
          </p:nvGrpSpPr>
          <p:grpSpPr>
            <a:xfrm>
              <a:off x="5580000" y="3400560"/>
              <a:ext cx="504720" cy="1073520"/>
              <a:chOff x="5580000" y="3400560"/>
              <a:chExt cx="504720" cy="1073520"/>
            </a:xfrm>
          </p:grpSpPr>
          <p:sp>
            <p:nvSpPr>
              <p:cNvPr id="180" name=""/>
              <p:cNvSpPr/>
              <p:nvPr/>
            </p:nvSpPr>
            <p:spPr>
              <a:xfrm>
                <a:off x="5580000" y="34005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80000" y="383220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03760" y="39690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994000" y="3616200"/>
              <a:ext cx="508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372000" y="3400560"/>
              <a:ext cx="504720" cy="1073520"/>
              <a:chOff x="6372000" y="3400560"/>
              <a:chExt cx="504720" cy="1073520"/>
            </a:xfrm>
          </p:grpSpPr>
          <p:sp>
            <p:nvSpPr>
              <p:cNvPr id="185" name=""/>
              <p:cNvSpPr/>
              <p:nvPr/>
            </p:nvSpPr>
            <p:spPr>
              <a:xfrm>
                <a:off x="6372000" y="34005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72000" y="383220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95760" y="39690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6732360" y="3578040"/>
              <a:ext cx="648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235640" y="3400560"/>
              <a:ext cx="504720" cy="1073520"/>
              <a:chOff x="7235640" y="3400560"/>
              <a:chExt cx="504720" cy="1073520"/>
            </a:xfrm>
          </p:grpSpPr>
          <p:sp>
            <p:nvSpPr>
              <p:cNvPr id="190" name=""/>
              <p:cNvSpPr/>
              <p:nvPr/>
            </p:nvSpPr>
            <p:spPr>
              <a:xfrm>
                <a:off x="7235640" y="34005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35640" y="383220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59400" y="39690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5580000" y="4336920"/>
            <a:ext cx="2552760" cy="1122480"/>
            <a:chOff x="5580000" y="4336920"/>
            <a:chExt cx="2552760" cy="1122480"/>
          </a:xfrm>
        </p:grpSpPr>
        <p:sp>
          <p:nvSpPr>
            <p:cNvPr id="194" name=""/>
            <p:cNvSpPr/>
            <p:nvPr/>
          </p:nvSpPr>
          <p:spPr>
            <a:xfrm>
              <a:off x="5865840" y="481752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580000" y="4336920"/>
              <a:ext cx="2552760" cy="1075320"/>
              <a:chOff x="5580000" y="4336920"/>
              <a:chExt cx="2552760" cy="1075320"/>
            </a:xfrm>
          </p:grpSpPr>
          <p:sp>
            <p:nvSpPr>
              <p:cNvPr id="196" name=""/>
              <p:cNvSpPr/>
              <p:nvPr/>
            </p:nvSpPr>
            <p:spPr>
              <a:xfrm>
                <a:off x="6445080" y="433836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300720" y="477036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83160" y="4914720"/>
                <a:ext cx="505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580000" y="4338360"/>
                <a:ext cx="504720" cy="1073520"/>
                <a:chOff x="5580000" y="4338360"/>
                <a:chExt cx="504720" cy="1073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80000" y="4338360"/>
                  <a:ext cx="5047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80000" y="4770000"/>
                  <a:ext cx="360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603760" y="49068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6877080" y="4538520"/>
                <a:ext cx="576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42200" y="4336920"/>
                <a:ext cx="6811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2200" y="476856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04120" y="491328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5580000" y="5192640"/>
            <a:ext cx="2744640" cy="1665720"/>
            <a:chOff x="5580000" y="5192640"/>
            <a:chExt cx="2744640" cy="1665720"/>
          </a:xfrm>
        </p:grpSpPr>
        <p:grpSp>
          <p:nvGrpSpPr>
            <p:cNvPr id="208" name=""/>
            <p:cNvGrpSpPr/>
            <p:nvPr/>
          </p:nvGrpSpPr>
          <p:grpSpPr>
            <a:xfrm>
              <a:off x="5580000" y="5192640"/>
              <a:ext cx="2744640" cy="1492200"/>
              <a:chOff x="5580000" y="5192640"/>
              <a:chExt cx="2744640" cy="1492200"/>
            </a:xfrm>
          </p:grpSpPr>
          <p:sp>
            <p:nvSpPr>
              <p:cNvPr id="209" name=""/>
              <p:cNvSpPr/>
              <p:nvPr/>
            </p:nvSpPr>
            <p:spPr>
              <a:xfrm>
                <a:off x="6637320" y="51926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92960" y="562428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575400" y="576900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59520" y="5671800"/>
                <a:ext cx="433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68960" y="5392440"/>
                <a:ext cx="576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＝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23280" y="5243400"/>
                <a:ext cx="680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34080" y="567540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96000" y="5807160"/>
                <a:ext cx="505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5580000" y="5221080"/>
                <a:ext cx="801720" cy="1073520"/>
                <a:chOff x="5580000" y="5221080"/>
                <a:chExt cx="801720" cy="1073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80000" y="5221080"/>
                  <a:ext cx="6811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91160" y="5652720"/>
                  <a:ext cx="790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3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94480" y="5778360"/>
                  <a:ext cx="50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5703840" y="6227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693400" y="6216480"/>
              <a:ext cx="48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906560" y="3487680"/>
            <a:ext cx="30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加下去，等号右边的分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越来越接近于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1332000" y="1628640"/>
            <a:ext cx="1079280" cy="432000"/>
          </a:xfrm>
          <a:prstGeom prst="wedgeRoundRectCallout">
            <a:avLst>
              <a:gd name="adj1" fmla="val -53675"/>
              <a:gd name="adj2" fmla="val 812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0" descr="男天使副本"/>
          <p:cNvPicPr/>
          <p:nvPr/>
        </p:nvPicPr>
        <p:blipFill>
          <a:blip r:embed="rId5"/>
          <a:stretch/>
        </p:blipFill>
        <p:spPr>
          <a:xfrm>
            <a:off x="0" y="1461960"/>
            <a:ext cx="1258920" cy="11685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6560" y="55897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7"/>
          <p:cNvSpPr/>
          <p:nvPr/>
        </p:nvSpPr>
        <p:spPr>
          <a:xfrm>
            <a:off x="1549440" y="2565360"/>
            <a:ext cx="2735280" cy="1295280"/>
          </a:xfrm>
          <a:prstGeom prst="wedgeRoundRectCallout">
            <a:avLst>
              <a:gd name="adj1" fmla="val -59458"/>
              <a:gd name="adj2" fmla="val -453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画个图来帮助思考。用一个圆或一条线段来表示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484360" y="1301760"/>
            <a:ext cx="5094000" cy="1143360"/>
            <a:chOff x="2484360" y="1301760"/>
            <a:chExt cx="5094000" cy="1143360"/>
          </a:xfrm>
        </p:grpSpPr>
        <p:sp>
          <p:nvSpPr>
            <p:cNvPr id="230" name=""/>
            <p:cNvSpPr/>
            <p:nvPr/>
          </p:nvSpPr>
          <p:spPr>
            <a:xfrm>
              <a:off x="5719680" y="13017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484360" y="1301760"/>
              <a:ext cx="503280" cy="1073520"/>
              <a:chOff x="2484360" y="1301760"/>
              <a:chExt cx="503280" cy="1073520"/>
            </a:xfrm>
          </p:grpSpPr>
          <p:sp>
            <p:nvSpPr>
              <p:cNvPr id="232" name=""/>
              <p:cNvSpPr/>
              <p:nvPr/>
            </p:nvSpPr>
            <p:spPr>
              <a:xfrm>
                <a:off x="2484360" y="1301760"/>
                <a:ext cx="503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84360" y="1733400"/>
                <a:ext cx="359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7760" y="1870200"/>
                <a:ext cx="35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6692760" y="13017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241440" y="1312920"/>
              <a:ext cx="504720" cy="1073520"/>
              <a:chOff x="3241440" y="1312920"/>
              <a:chExt cx="504720" cy="107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3241440" y="13129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41440" y="174456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65200" y="1881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992400" y="1308240"/>
              <a:ext cx="504720" cy="1073520"/>
              <a:chOff x="3992400" y="1308240"/>
              <a:chExt cx="504720" cy="1073520"/>
            </a:xfrm>
          </p:grpSpPr>
          <p:sp>
            <p:nvSpPr>
              <p:cNvPr id="241" name=""/>
              <p:cNvSpPr/>
              <p:nvPr/>
            </p:nvSpPr>
            <p:spPr>
              <a:xfrm>
                <a:off x="3992400" y="13082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92400" y="173988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16160" y="1876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856040" y="13017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773440" y="1744920"/>
              <a:ext cx="4804920" cy="700200"/>
              <a:chOff x="2773440" y="1744920"/>
              <a:chExt cx="4804920" cy="700200"/>
            </a:xfrm>
          </p:grpSpPr>
          <p:sp>
            <p:nvSpPr>
              <p:cNvPr id="246" name=""/>
              <p:cNvSpPr/>
              <p:nvPr/>
            </p:nvSpPr>
            <p:spPr>
              <a:xfrm>
                <a:off x="5576040" y="174492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59920" y="188928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773440" y="17920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583320" y="174492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67560" y="188928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30520" y="180324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0560" y="180324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14200" y="174492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98080" y="188928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11720" y="180324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57080" y="179856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47440" y="180324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7451640" y="1557360"/>
            <a:ext cx="154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 …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12000" y="1581120"/>
            <a:ext cx="86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93760" y="1557360"/>
            <a:ext cx="48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0" descr="男天使副本"/>
          <p:cNvPicPr/>
          <p:nvPr/>
        </p:nvPicPr>
        <p:blipFill>
          <a:blip r:embed="rId2"/>
          <a:stretch/>
        </p:blipFill>
        <p:spPr>
          <a:xfrm>
            <a:off x="0" y="2492280"/>
            <a:ext cx="1332000" cy="12366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4427640" y="4913280"/>
            <a:ext cx="4145040" cy="1755720"/>
            <a:chOff x="4427640" y="4913280"/>
            <a:chExt cx="4145040" cy="1755720"/>
          </a:xfrm>
        </p:grpSpPr>
        <p:sp>
          <p:nvSpPr>
            <p:cNvPr id="263" name="AutoShape 27"/>
            <p:cNvSpPr/>
            <p:nvPr/>
          </p:nvSpPr>
          <p:spPr>
            <a:xfrm>
              <a:off x="4427640" y="4986360"/>
              <a:ext cx="2808360" cy="1006560"/>
            </a:xfrm>
            <a:prstGeom prst="wedgeRoundRectCallout">
              <a:avLst>
                <a:gd name="adj1" fmla="val 60912"/>
                <a:gd name="adj2" fmla="val -149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有些问题通过画图，解决起来更直观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7196400" y="4913280"/>
              <a:ext cx="1376280" cy="175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"/>
          <p:cNvGrpSpPr/>
          <p:nvPr/>
        </p:nvGrpSpPr>
        <p:grpSpPr>
          <a:xfrm>
            <a:off x="34920" y="4437000"/>
            <a:ext cx="4319640" cy="1871640"/>
            <a:chOff x="34920" y="4437000"/>
            <a:chExt cx="4319640" cy="1871640"/>
          </a:xfrm>
        </p:grpSpPr>
        <p:sp>
          <p:nvSpPr>
            <p:cNvPr id="266" name="AutoShape 27"/>
            <p:cNvSpPr/>
            <p:nvPr/>
          </p:nvSpPr>
          <p:spPr>
            <a:xfrm>
              <a:off x="1619280" y="4437000"/>
              <a:ext cx="2735280" cy="1297080"/>
            </a:xfrm>
            <a:prstGeom prst="wedgeRoundRectCallout">
              <a:avLst>
                <a:gd name="adj1" fmla="val -59458"/>
                <a:gd name="adj2" fmla="val -4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从图上可以看出，这些分数不断加下去，总和就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4"/>
            <a:stretch/>
          </p:blipFill>
          <p:spPr>
            <a:xfrm>
              <a:off x="34920" y="4579920"/>
              <a:ext cx="1519200" cy="172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3276720" y="3860640"/>
            <a:ext cx="5868720" cy="876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5435640" y="2276640"/>
            <a:ext cx="2016000" cy="1784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男天使副本"/>
          <p:cNvPicPr/>
          <p:nvPr/>
        </p:nvPicPr>
        <p:blipFill>
          <a:blip r:embed="rId7"/>
          <a:stretch/>
        </p:blipFill>
        <p:spPr>
          <a:xfrm>
            <a:off x="0" y="148608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27"/>
          <p:cNvSpPr/>
          <p:nvPr/>
        </p:nvSpPr>
        <p:spPr>
          <a:xfrm>
            <a:off x="1403280" y="1644480"/>
            <a:ext cx="1081080" cy="560520"/>
          </a:xfrm>
          <a:prstGeom prst="wedgeRoundRectCallout">
            <a:avLst>
              <a:gd name="adj1" fmla="val -67032"/>
              <a:gd name="adj2" fmla="val 5113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矩形 9"/>
          <p:cNvSpPr/>
          <p:nvPr/>
        </p:nvSpPr>
        <p:spPr>
          <a:xfrm>
            <a:off x="1716120" y="3529080"/>
            <a:ext cx="399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1"/>
          <p:cNvSpPr/>
          <p:nvPr/>
        </p:nvSpPr>
        <p:spPr>
          <a:xfrm>
            <a:off x="1884240" y="4465800"/>
            <a:ext cx="54144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5"/>
          <p:cNvSpPr/>
          <p:nvPr/>
        </p:nvSpPr>
        <p:spPr>
          <a:xfrm>
            <a:off x="1908000" y="5300640"/>
            <a:ext cx="648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8"/>
          <p:cNvSpPr/>
          <p:nvPr/>
        </p:nvSpPr>
        <p:spPr>
          <a:xfrm>
            <a:off x="1692360" y="2637000"/>
            <a:ext cx="6318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340000" y="1341360"/>
            <a:ext cx="5094000" cy="1143360"/>
            <a:chOff x="2340000" y="1341360"/>
            <a:chExt cx="5094000" cy="1143360"/>
          </a:xfrm>
        </p:grpSpPr>
        <p:sp>
          <p:nvSpPr>
            <p:cNvPr id="279" name=""/>
            <p:cNvSpPr/>
            <p:nvPr/>
          </p:nvSpPr>
          <p:spPr>
            <a:xfrm>
              <a:off x="5575320" y="1341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340000" y="1341360"/>
              <a:ext cx="503280" cy="1073520"/>
              <a:chOff x="2340000" y="1341360"/>
              <a:chExt cx="503280" cy="1073520"/>
            </a:xfrm>
          </p:grpSpPr>
          <p:sp>
            <p:nvSpPr>
              <p:cNvPr id="281" name=""/>
              <p:cNvSpPr/>
              <p:nvPr/>
            </p:nvSpPr>
            <p:spPr>
              <a:xfrm>
                <a:off x="2340000" y="1341360"/>
                <a:ext cx="503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40000" y="1773000"/>
                <a:ext cx="359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63400" y="1909800"/>
                <a:ext cx="35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6548400" y="1341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097080" y="1352520"/>
              <a:ext cx="504720" cy="1073520"/>
              <a:chOff x="3097080" y="1352520"/>
              <a:chExt cx="504720" cy="1073520"/>
            </a:xfrm>
          </p:grpSpPr>
          <p:sp>
            <p:nvSpPr>
              <p:cNvPr id="286" name=""/>
              <p:cNvSpPr/>
              <p:nvPr/>
            </p:nvSpPr>
            <p:spPr>
              <a:xfrm>
                <a:off x="3097080" y="13525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97080" y="178416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20840" y="1920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848040" y="1347840"/>
              <a:ext cx="504720" cy="1073520"/>
              <a:chOff x="3848040" y="1347840"/>
              <a:chExt cx="504720" cy="1073520"/>
            </a:xfrm>
          </p:grpSpPr>
          <p:sp>
            <p:nvSpPr>
              <p:cNvPr id="290" name=""/>
              <p:cNvSpPr/>
              <p:nvPr/>
            </p:nvSpPr>
            <p:spPr>
              <a:xfrm>
                <a:off x="3848040" y="13478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48040" y="177948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71800" y="1916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711680" y="1341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629080" y="1784520"/>
              <a:ext cx="4804920" cy="700200"/>
              <a:chOff x="2629080" y="1784520"/>
              <a:chExt cx="4804920" cy="700200"/>
            </a:xfrm>
          </p:grpSpPr>
          <p:sp>
            <p:nvSpPr>
              <p:cNvPr id="295" name=""/>
              <p:cNvSpPr/>
              <p:nvPr/>
            </p:nvSpPr>
            <p:spPr>
              <a:xfrm>
                <a:off x="5431680" y="178452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15560" y="192888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629080" y="18316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38960" y="178452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23200" y="192888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86160" y="184284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56200" y="184284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69840" y="178452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53720" y="192888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67360" y="184284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12720" y="183816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03080" y="184284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00"/>
                    </a:solidFill>
                    <a:latin typeface="Arial"/>
                  </a:rPr>
                  <a:t>＋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7380360" y="1535040"/>
            <a:ext cx="176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12000" y="1606320"/>
            <a:ext cx="86364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31960" y="2535120"/>
            <a:ext cx="1799640" cy="1073520"/>
            <a:chOff x="831960" y="2535120"/>
            <a:chExt cx="1799640" cy="1073520"/>
          </a:xfrm>
        </p:grpSpPr>
        <p:grpSp>
          <p:nvGrpSpPr>
            <p:cNvPr id="310" name=""/>
            <p:cNvGrpSpPr/>
            <p:nvPr/>
          </p:nvGrpSpPr>
          <p:grpSpPr>
            <a:xfrm>
              <a:off x="831960" y="2535120"/>
              <a:ext cx="504360" cy="1073520"/>
              <a:chOff x="831960" y="2535120"/>
              <a:chExt cx="504360" cy="1073520"/>
            </a:xfrm>
          </p:grpSpPr>
          <p:sp>
            <p:nvSpPr>
              <p:cNvPr id="311" name=""/>
              <p:cNvSpPr/>
              <p:nvPr/>
            </p:nvSpPr>
            <p:spPr>
              <a:xfrm>
                <a:off x="831960" y="2535120"/>
                <a:ext cx="504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31960" y="29667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55360" y="31035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245600" y="2750760"/>
              <a:ext cx="508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623600" y="2535120"/>
              <a:ext cx="504720" cy="1073520"/>
              <a:chOff x="1623600" y="2535120"/>
              <a:chExt cx="504720" cy="1073520"/>
            </a:xfrm>
          </p:grpSpPr>
          <p:sp>
            <p:nvSpPr>
              <p:cNvPr id="316" name=""/>
              <p:cNvSpPr/>
              <p:nvPr/>
            </p:nvSpPr>
            <p:spPr>
              <a:xfrm>
                <a:off x="1623600" y="25351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23600" y="296676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47360" y="31035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983960" y="271260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487600" y="2535120"/>
            <a:ext cx="504720" cy="1073520"/>
            <a:chOff x="2487600" y="2535120"/>
            <a:chExt cx="504720" cy="1073520"/>
          </a:xfrm>
        </p:grpSpPr>
        <p:sp>
          <p:nvSpPr>
            <p:cNvPr id="321" name=""/>
            <p:cNvSpPr/>
            <p:nvPr/>
          </p:nvSpPr>
          <p:spPr>
            <a:xfrm>
              <a:off x="2487600" y="253512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87600" y="296676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11360" y="31035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826920" y="3500280"/>
            <a:ext cx="1800360" cy="1073520"/>
            <a:chOff x="826920" y="3500280"/>
            <a:chExt cx="1800360" cy="1073520"/>
          </a:xfrm>
        </p:grpSpPr>
        <p:grpSp>
          <p:nvGrpSpPr>
            <p:cNvPr id="325" name=""/>
            <p:cNvGrpSpPr/>
            <p:nvPr/>
          </p:nvGrpSpPr>
          <p:grpSpPr>
            <a:xfrm>
              <a:off x="826920" y="3500280"/>
              <a:ext cx="504720" cy="1073520"/>
              <a:chOff x="826920" y="3500280"/>
              <a:chExt cx="504720" cy="1073520"/>
            </a:xfrm>
          </p:grpSpPr>
          <p:sp>
            <p:nvSpPr>
              <p:cNvPr id="326" name=""/>
              <p:cNvSpPr/>
              <p:nvPr/>
            </p:nvSpPr>
            <p:spPr>
              <a:xfrm>
                <a:off x="826920" y="3500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26920" y="393192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50680" y="4068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240920" y="3715920"/>
              <a:ext cx="508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618920" y="3500280"/>
              <a:ext cx="504720" cy="1073520"/>
              <a:chOff x="1618920" y="3500280"/>
              <a:chExt cx="504720" cy="1073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618920" y="3500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618920" y="393192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642680" y="4068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1979280" y="3677760"/>
              <a:ext cx="648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462040" y="3473280"/>
            <a:ext cx="504720" cy="1073520"/>
            <a:chOff x="2462040" y="3473280"/>
            <a:chExt cx="504720" cy="1073520"/>
          </a:xfrm>
        </p:grpSpPr>
        <p:sp>
          <p:nvSpPr>
            <p:cNvPr id="336" name=""/>
            <p:cNvSpPr/>
            <p:nvPr/>
          </p:nvSpPr>
          <p:spPr>
            <a:xfrm>
              <a:off x="2462040" y="347328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62040" y="390492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85800" y="40417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826920" y="4336920"/>
            <a:ext cx="1511280" cy="1160640"/>
            <a:chOff x="826920" y="4336920"/>
            <a:chExt cx="1511280" cy="1160640"/>
          </a:xfrm>
        </p:grpSpPr>
        <p:sp>
          <p:nvSpPr>
            <p:cNvPr id="340" name=""/>
            <p:cNvSpPr/>
            <p:nvPr/>
          </p:nvSpPr>
          <p:spPr>
            <a:xfrm>
              <a:off x="1116000" y="4855680"/>
              <a:ext cx="433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547640" y="4365360"/>
              <a:ext cx="790560" cy="1065600"/>
              <a:chOff x="1547640" y="4365360"/>
              <a:chExt cx="790560" cy="1065600"/>
            </a:xfrm>
          </p:grpSpPr>
          <p:sp>
            <p:nvSpPr>
              <p:cNvPr id="342" name=""/>
              <p:cNvSpPr/>
              <p:nvPr/>
            </p:nvSpPr>
            <p:spPr>
              <a:xfrm>
                <a:off x="1692000" y="436536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47640" y="478908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18920" y="4941720"/>
                <a:ext cx="505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826920" y="4336920"/>
              <a:ext cx="504720" cy="1073520"/>
              <a:chOff x="826920" y="4336920"/>
              <a:chExt cx="504720" cy="1073520"/>
            </a:xfrm>
          </p:grpSpPr>
          <p:sp>
            <p:nvSpPr>
              <p:cNvPr id="346" name=""/>
              <p:cNvSpPr/>
              <p:nvPr/>
            </p:nvSpPr>
            <p:spPr>
              <a:xfrm>
                <a:off x="826920" y="43369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26920" y="476856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50680" y="4905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2124000" y="45655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535120" y="4340160"/>
            <a:ext cx="812520" cy="1068480"/>
            <a:chOff x="2535120" y="4340160"/>
            <a:chExt cx="812520" cy="1068480"/>
          </a:xfrm>
        </p:grpSpPr>
        <p:sp>
          <p:nvSpPr>
            <p:cNvPr id="351" name=""/>
            <p:cNvSpPr/>
            <p:nvPr/>
          </p:nvSpPr>
          <p:spPr>
            <a:xfrm>
              <a:off x="2535120" y="4340160"/>
              <a:ext cx="679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58520" y="4766760"/>
              <a:ext cx="789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96680" y="4940280"/>
              <a:ext cx="503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826920" y="5229360"/>
            <a:ext cx="2065320" cy="1492200"/>
            <a:chOff x="826920" y="5229360"/>
            <a:chExt cx="2065320" cy="1492200"/>
          </a:xfrm>
        </p:grpSpPr>
        <p:sp>
          <p:nvSpPr>
            <p:cNvPr id="355" name=""/>
            <p:cNvSpPr/>
            <p:nvPr/>
          </p:nvSpPr>
          <p:spPr>
            <a:xfrm>
              <a:off x="1884240" y="5229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39880" y="566100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22320" y="580572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06440" y="570852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15880" y="542916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826920" y="5257800"/>
              <a:ext cx="801720" cy="1073520"/>
              <a:chOff x="826920" y="5257800"/>
              <a:chExt cx="801720" cy="1073520"/>
            </a:xfrm>
          </p:grpSpPr>
          <p:sp>
            <p:nvSpPr>
              <p:cNvPr id="361" name=""/>
              <p:cNvSpPr/>
              <p:nvPr/>
            </p:nvSpPr>
            <p:spPr>
              <a:xfrm>
                <a:off x="826920" y="5257800"/>
                <a:ext cx="6811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8080" y="568944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41400" y="581508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950760" y="6264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920160" y="6216480"/>
            <a:ext cx="48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71640" y="5229360"/>
            <a:ext cx="814320" cy="1051560"/>
            <a:chOff x="2771640" y="5229360"/>
            <a:chExt cx="814320" cy="1051560"/>
          </a:xfrm>
        </p:grpSpPr>
        <p:sp>
          <p:nvSpPr>
            <p:cNvPr id="367" name=""/>
            <p:cNvSpPr/>
            <p:nvPr/>
          </p:nvSpPr>
          <p:spPr>
            <a:xfrm>
              <a:off x="2771640" y="5229360"/>
              <a:ext cx="681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95400" y="563904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33560" y="580572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924360" y="2201760"/>
            <a:ext cx="3487680" cy="396396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6188040" y="4041720"/>
            <a:ext cx="502920" cy="773640"/>
            <a:chOff x="6188040" y="4041720"/>
            <a:chExt cx="502920" cy="773640"/>
          </a:xfrm>
        </p:grpSpPr>
        <p:sp>
          <p:nvSpPr>
            <p:cNvPr id="372" name=""/>
            <p:cNvSpPr/>
            <p:nvPr/>
          </p:nvSpPr>
          <p:spPr>
            <a:xfrm>
              <a:off x="6194160" y="4392360"/>
              <a:ext cx="496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88040" y="4041720"/>
              <a:ext cx="354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03520" y="4453200"/>
              <a:ext cx="28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703760" y="4678200"/>
            <a:ext cx="501120" cy="774000"/>
            <a:chOff x="4703760" y="4678200"/>
            <a:chExt cx="501120" cy="774000"/>
          </a:xfrm>
        </p:grpSpPr>
        <p:sp>
          <p:nvSpPr>
            <p:cNvPr id="376" name=""/>
            <p:cNvSpPr/>
            <p:nvPr/>
          </p:nvSpPr>
          <p:spPr>
            <a:xfrm>
              <a:off x="4709880" y="5029200"/>
              <a:ext cx="495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03760" y="4678200"/>
              <a:ext cx="353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19240" y="5090040"/>
              <a:ext cx="28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773600" y="2909880"/>
            <a:ext cx="495360" cy="772200"/>
            <a:chOff x="4773600" y="2909880"/>
            <a:chExt cx="495360" cy="772200"/>
          </a:xfrm>
        </p:grpSpPr>
        <p:sp>
          <p:nvSpPr>
            <p:cNvPr id="380" name=""/>
            <p:cNvSpPr/>
            <p:nvPr/>
          </p:nvSpPr>
          <p:spPr>
            <a:xfrm>
              <a:off x="4773600" y="3259080"/>
              <a:ext cx="495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0720" y="2909880"/>
              <a:ext cx="353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38760" y="3321360"/>
              <a:ext cx="35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376880" y="3548160"/>
            <a:ext cx="502560" cy="772200"/>
            <a:chOff x="4376880" y="3548160"/>
            <a:chExt cx="502560" cy="772200"/>
          </a:xfrm>
        </p:grpSpPr>
        <p:sp>
          <p:nvSpPr>
            <p:cNvPr id="384" name=""/>
            <p:cNvSpPr/>
            <p:nvPr/>
          </p:nvSpPr>
          <p:spPr>
            <a:xfrm>
              <a:off x="4383000" y="3897360"/>
              <a:ext cx="4964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76880" y="3548160"/>
              <a:ext cx="354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92360" y="3959640"/>
              <a:ext cx="28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948200" y="2046240"/>
            <a:ext cx="918720" cy="772200"/>
            <a:chOff x="4948200" y="2046240"/>
            <a:chExt cx="918720" cy="772200"/>
          </a:xfrm>
        </p:grpSpPr>
        <p:sp>
          <p:nvSpPr>
            <p:cNvPr id="388" name=""/>
            <p:cNvSpPr/>
            <p:nvPr/>
          </p:nvSpPr>
          <p:spPr>
            <a:xfrm>
              <a:off x="5372280" y="2258280"/>
              <a:ext cx="494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4948200" y="2046240"/>
              <a:ext cx="496080" cy="772200"/>
              <a:chOff x="4948200" y="2046240"/>
              <a:chExt cx="496080" cy="772200"/>
            </a:xfrm>
          </p:grpSpPr>
          <p:sp>
            <p:nvSpPr>
              <p:cNvPr id="390" name=""/>
              <p:cNvSpPr/>
              <p:nvPr/>
            </p:nvSpPr>
            <p:spPr>
              <a:xfrm>
                <a:off x="4948200" y="2395440"/>
                <a:ext cx="496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035320" y="2046240"/>
                <a:ext cx="353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013360" y="2457720"/>
                <a:ext cx="35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3" name="Picture 7" descr=""/>
          <p:cNvPicPr/>
          <p:nvPr/>
        </p:nvPicPr>
        <p:blipFill>
          <a:blip r:embed="rId3"/>
          <a:stretch/>
        </p:blipFill>
        <p:spPr>
          <a:xfrm>
            <a:off x="3780000" y="2565360"/>
            <a:ext cx="3622680" cy="3670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4"/>
          <a:stretch/>
        </p:blipFill>
        <p:spPr>
          <a:xfrm>
            <a:off x="3780000" y="2687760"/>
            <a:ext cx="3763800" cy="353376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500720" y="4221000"/>
            <a:ext cx="510480" cy="778680"/>
            <a:chOff x="4500720" y="4221000"/>
            <a:chExt cx="510480" cy="778680"/>
          </a:xfrm>
        </p:grpSpPr>
        <p:sp>
          <p:nvSpPr>
            <p:cNvPr id="396" name=""/>
            <p:cNvSpPr/>
            <p:nvPr/>
          </p:nvSpPr>
          <p:spPr>
            <a:xfrm>
              <a:off x="4506840" y="4576680"/>
              <a:ext cx="50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00720" y="4221000"/>
              <a:ext cx="36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16200" y="4640040"/>
              <a:ext cx="28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Picture 2" descr=""/>
          <p:cNvPicPr/>
          <p:nvPr/>
        </p:nvPicPr>
        <p:blipFill>
          <a:blip r:embed="rId5"/>
          <a:srcRect l="0" t="0" r="1435" b="0"/>
          <a:stretch/>
        </p:blipFill>
        <p:spPr>
          <a:xfrm>
            <a:off x="3876840" y="2695680"/>
            <a:ext cx="3574800" cy="361152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6084720" y="4149720"/>
            <a:ext cx="511200" cy="778680"/>
            <a:chOff x="6084720" y="4149720"/>
            <a:chExt cx="511200" cy="778680"/>
          </a:xfrm>
        </p:grpSpPr>
        <p:sp>
          <p:nvSpPr>
            <p:cNvPr id="401" name=""/>
            <p:cNvSpPr/>
            <p:nvPr/>
          </p:nvSpPr>
          <p:spPr>
            <a:xfrm>
              <a:off x="6091200" y="45054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84720" y="41497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00560" y="45687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716360" y="3213000"/>
            <a:ext cx="504720" cy="778680"/>
            <a:chOff x="4716360" y="3213000"/>
            <a:chExt cx="504720" cy="778680"/>
          </a:xfrm>
        </p:grpSpPr>
        <p:sp>
          <p:nvSpPr>
            <p:cNvPr id="405" name=""/>
            <p:cNvSpPr/>
            <p:nvPr/>
          </p:nvSpPr>
          <p:spPr>
            <a:xfrm>
              <a:off x="4716360" y="3568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24280" y="321300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82960" y="3632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Picture 16" descr=""/>
          <p:cNvPicPr/>
          <p:nvPr/>
        </p:nvPicPr>
        <p:blipFill>
          <a:blip r:embed="rId6"/>
          <a:stretch/>
        </p:blipFill>
        <p:spPr>
          <a:xfrm>
            <a:off x="3838680" y="2505240"/>
            <a:ext cx="3700440" cy="385128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4788000" y="3068640"/>
            <a:ext cx="504720" cy="778680"/>
            <a:chOff x="4788000" y="3068640"/>
            <a:chExt cx="504720" cy="778680"/>
          </a:xfrm>
        </p:grpSpPr>
        <p:sp>
          <p:nvSpPr>
            <p:cNvPr id="410" name=""/>
            <p:cNvSpPr/>
            <p:nvPr/>
          </p:nvSpPr>
          <p:spPr>
            <a:xfrm>
              <a:off x="4788000" y="34243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95920" y="306864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54600" y="3487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26" descr=""/>
          <p:cNvPicPr/>
          <p:nvPr/>
        </p:nvPicPr>
        <p:blipFill>
          <a:blip r:embed="rId7"/>
          <a:stretch/>
        </p:blipFill>
        <p:spPr>
          <a:xfrm>
            <a:off x="3813120" y="2492280"/>
            <a:ext cx="3676680" cy="379260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5003640" y="2852640"/>
            <a:ext cx="504720" cy="778680"/>
            <a:chOff x="5003640" y="2852640"/>
            <a:chExt cx="504720" cy="778680"/>
          </a:xfrm>
        </p:grpSpPr>
        <p:sp>
          <p:nvSpPr>
            <p:cNvPr id="415" name=""/>
            <p:cNvSpPr/>
            <p:nvPr/>
          </p:nvSpPr>
          <p:spPr>
            <a:xfrm>
              <a:off x="5003640" y="32083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11560" y="285264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70240" y="327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Picture 34" descr=""/>
          <p:cNvPicPr/>
          <p:nvPr/>
        </p:nvPicPr>
        <p:blipFill>
          <a:blip r:embed="rId8"/>
          <a:srcRect l="5295" t="0" r="0" b="0"/>
          <a:stretch/>
        </p:blipFill>
        <p:spPr>
          <a:xfrm>
            <a:off x="3780000" y="2565360"/>
            <a:ext cx="3744720" cy="380700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4859280" y="2924280"/>
            <a:ext cx="953640" cy="793440"/>
            <a:chOff x="4859280" y="2924280"/>
            <a:chExt cx="953640" cy="793440"/>
          </a:xfrm>
        </p:grpSpPr>
        <p:sp>
          <p:nvSpPr>
            <p:cNvPr id="420" name=""/>
            <p:cNvSpPr/>
            <p:nvPr/>
          </p:nvSpPr>
          <p:spPr>
            <a:xfrm>
              <a:off x="4859280" y="3294720"/>
              <a:ext cx="72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78360" y="2924280"/>
              <a:ext cx="934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97440" y="3370680"/>
              <a:ext cx="50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20" descr="男天使副本"/>
          <p:cNvPicPr/>
          <p:nvPr/>
        </p:nvPicPr>
        <p:blipFill>
          <a:blip r:embed="rId9"/>
          <a:stretch/>
        </p:blipFill>
        <p:spPr>
          <a:xfrm>
            <a:off x="0" y="148608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27"/>
          <p:cNvSpPr/>
          <p:nvPr/>
        </p:nvSpPr>
        <p:spPr>
          <a:xfrm>
            <a:off x="1258920" y="1413000"/>
            <a:ext cx="1081080" cy="560160"/>
          </a:xfrm>
          <a:prstGeom prst="wedgeRoundRectCallout">
            <a:avLst>
              <a:gd name="adj1" fmla="val -50291"/>
              <a:gd name="adj2" fmla="val 7662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347760" y="285840"/>
            <a:ext cx="8391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动作按钮: 开始 22"/>
          <p:cNvSpPr/>
          <p:nvPr/>
        </p:nvSpPr>
        <p:spPr>
          <a:xfrm>
            <a:off x="8532720" y="6308640"/>
            <a:ext cx="432000" cy="344520"/>
          </a:xfrm>
          <a:custGeom>
            <a:avLst/>
            <a:gdLst>
              <a:gd name="textAreaLeft" fmla="*/ 21240 w 432000"/>
              <a:gd name="textAreaRight" fmla="*/ 410760 w 432000"/>
              <a:gd name="textAreaTop" fmla="*/ 21240 h 344520"/>
              <a:gd name="textAreaBottom" fmla="*/ 323280 h 344520"/>
            </a:gdLst>
            <a:ahLst/>
            <a:rect l="textAreaLeft" t="textAreaTop" r="textAreaRight" b="textAreaBottom"/>
            <a:pathLst>
              <a:path w="27079" h="21600">
                <a:moveTo>
                  <a:pt x="0" y="0"/>
                </a:moveTo>
                <a:lnTo>
                  <a:pt x="27079" y="0"/>
                </a:lnTo>
                <a:lnTo>
                  <a:pt x="27079" y="21600"/>
                </a:lnTo>
                <a:lnTo>
                  <a:pt x="0" y="21600"/>
                </a:lnTo>
                <a:close/>
              </a:path>
              <a:path fill="lightenLess" w="27079" h="21600">
                <a:moveTo>
                  <a:pt x="0" y="0"/>
                </a:moveTo>
                <a:lnTo>
                  <a:pt x="27079" y="0"/>
                </a:lnTo>
                <a:lnTo>
                  <a:pt x="25729" y="1350"/>
                </a:lnTo>
                <a:lnTo>
                  <a:pt x="1350" y="1350"/>
                </a:lnTo>
                <a:close/>
              </a:path>
              <a:path fill="darken" w="27079" h="21600">
                <a:moveTo>
                  <a:pt x="27079" y="0"/>
                </a:moveTo>
                <a:lnTo>
                  <a:pt x="27079" y="21600"/>
                </a:lnTo>
                <a:lnTo>
                  <a:pt x="25729" y="20250"/>
                </a:lnTo>
                <a:lnTo>
                  <a:pt x="25729" y="1350"/>
                </a:lnTo>
                <a:close/>
              </a:path>
              <a:path fill="darkenLess" w="27079" h="21600">
                <a:moveTo>
                  <a:pt x="2707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29" y="20250"/>
                </a:lnTo>
                <a:close/>
              </a:path>
              <a:path fill="lighten" w="2707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079" h="21600">
                <a:moveTo>
                  <a:pt x="10022" y="10800"/>
                </a:moveTo>
                <a:lnTo>
                  <a:pt x="20583" y="3756"/>
                </a:lnTo>
                <a:lnTo>
                  <a:pt x="20583" y="17844"/>
                </a:lnTo>
                <a:close/>
              </a:path>
              <a:path fill="darken" w="27079" h="21600">
                <a:moveTo>
                  <a:pt x="6496" y="3756"/>
                </a:moveTo>
                <a:lnTo>
                  <a:pt x="8167" y="3756"/>
                </a:lnTo>
                <a:lnTo>
                  <a:pt x="8167" y="17844"/>
                </a:lnTo>
                <a:lnTo>
                  <a:pt x="6496" y="17844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45"/>
          <p:cNvSpPr/>
          <p:nvPr/>
        </p:nvSpPr>
        <p:spPr>
          <a:xfrm>
            <a:off x="5076720" y="6093000"/>
            <a:ext cx="6206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372960" y="4221000"/>
            <a:ext cx="8496360" cy="2811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363600" y="4226040"/>
            <a:ext cx="4289400" cy="268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"/>
          <p:cNvPicPr/>
          <p:nvPr/>
        </p:nvPicPr>
        <p:blipFill>
          <a:blip r:embed="rId4"/>
          <a:stretch/>
        </p:blipFill>
        <p:spPr>
          <a:xfrm>
            <a:off x="4594320" y="4237200"/>
            <a:ext cx="2163600" cy="242640"/>
          </a:xfrm>
          <a:prstGeom prst="rect">
            <a:avLst/>
          </a:prstGeom>
          <a:ln w="0">
            <a:noFill/>
          </a:ln>
        </p:spPr>
      </p:pic>
      <p:sp>
        <p:nvSpPr>
          <p:cNvPr id="432" name="矩形 20"/>
          <p:cNvSpPr/>
          <p:nvPr/>
        </p:nvSpPr>
        <p:spPr>
          <a:xfrm>
            <a:off x="4500720" y="413388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5"/>
          <a:stretch/>
        </p:blipFill>
        <p:spPr>
          <a:xfrm>
            <a:off x="385920" y="4230720"/>
            <a:ext cx="6379920" cy="249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5" descr=""/>
          <p:cNvPicPr/>
          <p:nvPr/>
        </p:nvPicPr>
        <p:blipFill>
          <a:blip r:embed="rId6"/>
          <a:stretch/>
        </p:blipFill>
        <p:spPr>
          <a:xfrm>
            <a:off x="6715080" y="4240080"/>
            <a:ext cx="1087560" cy="2350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6607080" y="4853160"/>
            <a:ext cx="6786720" cy="5091120"/>
          </a:xfrm>
          <a:prstGeom prst="rect">
            <a:avLst/>
          </a:prstGeom>
          <a:ln w="0">
            <a:noFill/>
          </a:ln>
        </p:spPr>
      </p:pic>
      <p:sp>
        <p:nvSpPr>
          <p:cNvPr id="436" name="矩形 30"/>
          <p:cNvSpPr/>
          <p:nvPr/>
        </p:nvSpPr>
        <p:spPr>
          <a:xfrm>
            <a:off x="665496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9" descr=""/>
          <p:cNvPicPr/>
          <p:nvPr/>
        </p:nvPicPr>
        <p:blipFill>
          <a:blip r:embed="rId8"/>
          <a:stretch/>
        </p:blipFill>
        <p:spPr>
          <a:xfrm>
            <a:off x="7753320" y="4238640"/>
            <a:ext cx="579600" cy="235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3" descr=""/>
          <p:cNvPicPr/>
          <p:nvPr/>
        </p:nvPicPr>
        <p:blipFill>
          <a:blip r:embed="rId9"/>
          <a:stretch/>
        </p:blipFill>
        <p:spPr>
          <a:xfrm>
            <a:off x="403200" y="4232160"/>
            <a:ext cx="7408800" cy="243000"/>
          </a:xfrm>
          <a:prstGeom prst="rect">
            <a:avLst/>
          </a:prstGeom>
          <a:ln w="0">
            <a:noFill/>
          </a:ln>
        </p:spPr>
      </p:pic>
      <p:sp>
        <p:nvSpPr>
          <p:cNvPr id="439" name="矩形 36"/>
          <p:cNvSpPr/>
          <p:nvPr/>
        </p:nvSpPr>
        <p:spPr>
          <a:xfrm>
            <a:off x="7650000" y="4132440"/>
            <a:ext cx="206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50" descr=""/>
          <p:cNvPicPr/>
          <p:nvPr/>
        </p:nvPicPr>
        <p:blipFill>
          <a:blip r:embed="rId10"/>
          <a:stretch/>
        </p:blipFill>
        <p:spPr>
          <a:xfrm>
            <a:off x="411120" y="4254480"/>
            <a:ext cx="7921800" cy="222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1" descr=""/>
          <p:cNvPicPr/>
          <p:nvPr/>
        </p:nvPicPr>
        <p:blipFill>
          <a:blip r:embed="rId11"/>
          <a:stretch/>
        </p:blipFill>
        <p:spPr>
          <a:xfrm>
            <a:off x="8278920" y="4230720"/>
            <a:ext cx="298440" cy="243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2"/>
          <a:stretch/>
        </p:blipFill>
        <p:spPr>
          <a:xfrm>
            <a:off x="7864560" y="4853160"/>
            <a:ext cx="8370720" cy="6279840"/>
          </a:xfrm>
          <a:prstGeom prst="rect">
            <a:avLst/>
          </a:prstGeom>
          <a:ln w="0">
            <a:noFill/>
          </a:ln>
        </p:spPr>
      </p:pic>
      <p:sp>
        <p:nvSpPr>
          <p:cNvPr id="443" name="矩形 42"/>
          <p:cNvSpPr/>
          <p:nvPr/>
        </p:nvSpPr>
        <p:spPr>
          <a:xfrm>
            <a:off x="822168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72" descr=""/>
          <p:cNvPicPr/>
          <p:nvPr/>
        </p:nvPicPr>
        <p:blipFill>
          <a:blip r:embed="rId13"/>
          <a:stretch/>
        </p:blipFill>
        <p:spPr>
          <a:xfrm>
            <a:off x="393840" y="4227480"/>
            <a:ext cx="8183520" cy="243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87" descr=""/>
          <p:cNvPicPr/>
          <p:nvPr/>
        </p:nvPicPr>
        <p:blipFill>
          <a:blip r:embed="rId14"/>
          <a:stretch/>
        </p:blipFill>
        <p:spPr>
          <a:xfrm>
            <a:off x="8521560" y="4218120"/>
            <a:ext cx="177840" cy="258480"/>
          </a:xfrm>
          <a:prstGeom prst="rect">
            <a:avLst/>
          </a:prstGeom>
          <a:ln w="0">
            <a:noFill/>
          </a:ln>
        </p:spPr>
      </p:pic>
      <p:sp>
        <p:nvSpPr>
          <p:cNvPr id="446" name="矩形 46"/>
          <p:cNvSpPr/>
          <p:nvPr/>
        </p:nvSpPr>
        <p:spPr>
          <a:xfrm>
            <a:off x="839628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88" descr=""/>
          <p:cNvPicPr/>
          <p:nvPr/>
        </p:nvPicPr>
        <p:blipFill>
          <a:blip r:embed="rId15"/>
          <a:stretch/>
        </p:blipFill>
        <p:spPr>
          <a:xfrm>
            <a:off x="398520" y="4226040"/>
            <a:ext cx="8307360" cy="2505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03" descr=""/>
          <p:cNvPicPr/>
          <p:nvPr/>
        </p:nvPicPr>
        <p:blipFill>
          <a:blip r:embed="rId16"/>
          <a:stretch/>
        </p:blipFill>
        <p:spPr>
          <a:xfrm>
            <a:off x="8658360" y="4230720"/>
            <a:ext cx="117360" cy="245880"/>
          </a:xfrm>
          <a:prstGeom prst="rect">
            <a:avLst/>
          </a:prstGeom>
          <a:ln w="0">
            <a:noFill/>
          </a:ln>
        </p:spPr>
      </p:pic>
      <p:sp>
        <p:nvSpPr>
          <p:cNvPr id="449" name="矩形 50"/>
          <p:cNvSpPr/>
          <p:nvPr/>
        </p:nvSpPr>
        <p:spPr>
          <a:xfrm>
            <a:off x="851076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04" descr=""/>
          <p:cNvPicPr/>
          <p:nvPr/>
        </p:nvPicPr>
        <p:blipFill>
          <a:blip r:embed="rId17"/>
          <a:stretch/>
        </p:blipFill>
        <p:spPr>
          <a:xfrm>
            <a:off x="395280" y="4237200"/>
            <a:ext cx="8380440" cy="22356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324000" y="2852640"/>
            <a:ext cx="1818720" cy="775440"/>
            <a:chOff x="324000" y="2852640"/>
            <a:chExt cx="1818720" cy="775440"/>
          </a:xfrm>
        </p:grpSpPr>
        <p:grpSp>
          <p:nvGrpSpPr>
            <p:cNvPr id="452" name=""/>
            <p:cNvGrpSpPr/>
            <p:nvPr/>
          </p:nvGrpSpPr>
          <p:grpSpPr>
            <a:xfrm>
              <a:off x="324000" y="2862000"/>
              <a:ext cx="504360" cy="766080"/>
              <a:chOff x="324000" y="2862000"/>
              <a:chExt cx="504360" cy="766080"/>
            </a:xfrm>
          </p:grpSpPr>
          <p:sp>
            <p:nvSpPr>
              <p:cNvPr id="453" name=""/>
              <p:cNvSpPr/>
              <p:nvPr/>
            </p:nvSpPr>
            <p:spPr>
              <a:xfrm>
                <a:off x="324000" y="286200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4000" y="320508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2720" y="328104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676080" y="303156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8040" y="3021840"/>
              <a:ext cx="456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990360" y="2852640"/>
              <a:ext cx="504360" cy="766080"/>
              <a:chOff x="990360" y="2852640"/>
              <a:chExt cx="504360" cy="766080"/>
            </a:xfrm>
          </p:grpSpPr>
          <p:sp>
            <p:nvSpPr>
              <p:cNvPr id="459" name=""/>
              <p:cNvSpPr/>
              <p:nvPr/>
            </p:nvSpPr>
            <p:spPr>
              <a:xfrm>
                <a:off x="990360" y="28526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90360" y="31957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009080" y="327168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638000" y="2852640"/>
              <a:ext cx="504720" cy="766080"/>
              <a:chOff x="1638000" y="2852640"/>
              <a:chExt cx="504720" cy="766080"/>
            </a:xfrm>
          </p:grpSpPr>
          <p:sp>
            <p:nvSpPr>
              <p:cNvPr id="463" name=""/>
              <p:cNvSpPr/>
              <p:nvPr/>
            </p:nvSpPr>
            <p:spPr>
              <a:xfrm>
                <a:off x="1638000" y="2852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638000" y="3195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657080" y="32716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矩形 8"/>
          <p:cNvSpPr/>
          <p:nvPr/>
        </p:nvSpPr>
        <p:spPr>
          <a:xfrm>
            <a:off x="1649520" y="2852640"/>
            <a:ext cx="6188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059280" y="4475160"/>
            <a:ext cx="504720" cy="766080"/>
            <a:chOff x="3059280" y="4475160"/>
            <a:chExt cx="504720" cy="766080"/>
          </a:xfrm>
        </p:grpSpPr>
        <p:sp>
          <p:nvSpPr>
            <p:cNvPr id="468" name=""/>
            <p:cNvSpPr/>
            <p:nvPr/>
          </p:nvSpPr>
          <p:spPr>
            <a:xfrm>
              <a:off x="3059280" y="44751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59280" y="48182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78360" y="489420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508720" y="4475160"/>
            <a:ext cx="504720" cy="766080"/>
            <a:chOff x="5508720" y="4475160"/>
            <a:chExt cx="504720" cy="766080"/>
          </a:xfrm>
        </p:grpSpPr>
        <p:sp>
          <p:nvSpPr>
            <p:cNvPr id="472" name=""/>
            <p:cNvSpPr/>
            <p:nvPr/>
          </p:nvSpPr>
          <p:spPr>
            <a:xfrm>
              <a:off x="5508720" y="44751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08720" y="48182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27800" y="489420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067280" y="4508640"/>
            <a:ext cx="504720" cy="765720"/>
            <a:chOff x="4067280" y="4508640"/>
            <a:chExt cx="504720" cy="765720"/>
          </a:xfrm>
        </p:grpSpPr>
        <p:sp>
          <p:nvSpPr>
            <p:cNvPr id="476" name=""/>
            <p:cNvSpPr/>
            <p:nvPr/>
          </p:nvSpPr>
          <p:spPr>
            <a:xfrm>
              <a:off x="4067280" y="45086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67280" y="4851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86360" y="49273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268360" y="2852640"/>
            <a:ext cx="1819080" cy="775440"/>
            <a:chOff x="2268360" y="2852640"/>
            <a:chExt cx="1819080" cy="775440"/>
          </a:xfrm>
        </p:grpSpPr>
        <p:grpSp>
          <p:nvGrpSpPr>
            <p:cNvPr id="480" name=""/>
            <p:cNvGrpSpPr/>
            <p:nvPr/>
          </p:nvGrpSpPr>
          <p:grpSpPr>
            <a:xfrm>
              <a:off x="2268360" y="2862000"/>
              <a:ext cx="504720" cy="766080"/>
              <a:chOff x="2268360" y="2862000"/>
              <a:chExt cx="504720" cy="766080"/>
            </a:xfrm>
          </p:grpSpPr>
          <p:sp>
            <p:nvSpPr>
              <p:cNvPr id="481" name=""/>
              <p:cNvSpPr/>
              <p:nvPr/>
            </p:nvSpPr>
            <p:spPr>
              <a:xfrm>
                <a:off x="2268360" y="28620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268360" y="3205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287440" y="328104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620800" y="303156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82760" y="3021840"/>
              <a:ext cx="45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2935080" y="2852640"/>
              <a:ext cx="504720" cy="766080"/>
              <a:chOff x="2935080" y="2852640"/>
              <a:chExt cx="504720" cy="766080"/>
            </a:xfrm>
          </p:grpSpPr>
          <p:sp>
            <p:nvSpPr>
              <p:cNvPr id="487" name=""/>
              <p:cNvSpPr/>
              <p:nvPr/>
            </p:nvSpPr>
            <p:spPr>
              <a:xfrm>
                <a:off x="2935080" y="2852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35080" y="3195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954160" y="32716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3582720" y="2852640"/>
              <a:ext cx="504720" cy="766080"/>
              <a:chOff x="3582720" y="2852640"/>
              <a:chExt cx="504720" cy="766080"/>
            </a:xfrm>
          </p:grpSpPr>
          <p:sp>
            <p:nvSpPr>
              <p:cNvPr id="491" name=""/>
              <p:cNvSpPr/>
              <p:nvPr/>
            </p:nvSpPr>
            <p:spPr>
              <a:xfrm>
                <a:off x="3582720" y="2852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82720" y="3195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601800" y="32716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矩形 9"/>
          <p:cNvSpPr/>
          <p:nvPr/>
        </p:nvSpPr>
        <p:spPr>
          <a:xfrm>
            <a:off x="3595680" y="2852640"/>
            <a:ext cx="399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588000" y="4508640"/>
            <a:ext cx="504720" cy="765720"/>
            <a:chOff x="6588000" y="4508640"/>
            <a:chExt cx="504720" cy="765720"/>
          </a:xfrm>
        </p:grpSpPr>
        <p:sp>
          <p:nvSpPr>
            <p:cNvPr id="496" name=""/>
            <p:cNvSpPr/>
            <p:nvPr/>
          </p:nvSpPr>
          <p:spPr>
            <a:xfrm>
              <a:off x="6588000" y="45086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88000" y="4851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07080" y="49273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77080" y="4508640"/>
            <a:ext cx="504720" cy="765720"/>
            <a:chOff x="6877080" y="4508640"/>
            <a:chExt cx="504720" cy="765720"/>
          </a:xfrm>
        </p:grpSpPr>
        <p:sp>
          <p:nvSpPr>
            <p:cNvPr id="500" name=""/>
            <p:cNvSpPr/>
            <p:nvPr/>
          </p:nvSpPr>
          <p:spPr>
            <a:xfrm>
              <a:off x="6877080" y="45086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7080" y="4851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96160" y="49273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246560" y="2852640"/>
            <a:ext cx="1819080" cy="784800"/>
            <a:chOff x="4246560" y="2852640"/>
            <a:chExt cx="1819080" cy="784800"/>
          </a:xfrm>
        </p:grpSpPr>
        <p:grpSp>
          <p:nvGrpSpPr>
            <p:cNvPr id="504" name=""/>
            <p:cNvGrpSpPr/>
            <p:nvPr/>
          </p:nvGrpSpPr>
          <p:grpSpPr>
            <a:xfrm>
              <a:off x="4246560" y="2862000"/>
              <a:ext cx="504720" cy="766080"/>
              <a:chOff x="4246560" y="2862000"/>
              <a:chExt cx="504720" cy="766080"/>
            </a:xfrm>
          </p:grpSpPr>
          <p:sp>
            <p:nvSpPr>
              <p:cNvPr id="505" name=""/>
              <p:cNvSpPr/>
              <p:nvPr/>
            </p:nvSpPr>
            <p:spPr>
              <a:xfrm>
                <a:off x="4246560" y="28620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246560" y="3205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265640" y="328104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4599000" y="303156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89400" y="3021840"/>
              <a:ext cx="45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818240" y="2859120"/>
              <a:ext cx="504720" cy="778320"/>
              <a:chOff x="4818240" y="2859120"/>
              <a:chExt cx="504720" cy="778320"/>
            </a:xfrm>
          </p:grpSpPr>
          <p:sp>
            <p:nvSpPr>
              <p:cNvPr id="511" name=""/>
              <p:cNvSpPr/>
              <p:nvPr/>
            </p:nvSpPr>
            <p:spPr>
              <a:xfrm>
                <a:off x="4818240" y="32144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907160" y="2859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884840" y="3277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5560920" y="2852640"/>
              <a:ext cx="504720" cy="778680"/>
              <a:chOff x="5560920" y="2852640"/>
              <a:chExt cx="504720" cy="778680"/>
            </a:xfrm>
          </p:grpSpPr>
          <p:sp>
            <p:nvSpPr>
              <p:cNvPr id="515" name=""/>
              <p:cNvSpPr/>
              <p:nvPr/>
            </p:nvSpPr>
            <p:spPr>
              <a:xfrm>
                <a:off x="5560920" y="3208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68840" y="2852640"/>
                <a:ext cx="476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627520" y="3271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矩形 11"/>
          <p:cNvSpPr/>
          <p:nvPr/>
        </p:nvSpPr>
        <p:spPr>
          <a:xfrm>
            <a:off x="5614920" y="2852640"/>
            <a:ext cx="5414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7956720" y="4508640"/>
            <a:ext cx="504720" cy="778320"/>
            <a:chOff x="7956720" y="4508640"/>
            <a:chExt cx="504720" cy="778320"/>
          </a:xfrm>
        </p:grpSpPr>
        <p:sp>
          <p:nvSpPr>
            <p:cNvPr id="520" name=""/>
            <p:cNvSpPr/>
            <p:nvPr/>
          </p:nvSpPr>
          <p:spPr>
            <a:xfrm>
              <a:off x="7956720" y="4863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45640" y="45086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23320" y="492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8244000" y="4508640"/>
            <a:ext cx="504720" cy="778320"/>
            <a:chOff x="8244000" y="4508640"/>
            <a:chExt cx="504720" cy="778320"/>
          </a:xfrm>
        </p:grpSpPr>
        <p:sp>
          <p:nvSpPr>
            <p:cNvPr id="524" name=""/>
            <p:cNvSpPr/>
            <p:nvPr/>
          </p:nvSpPr>
          <p:spPr>
            <a:xfrm>
              <a:off x="8244000" y="4863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32920" y="45086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10600" y="492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7236000" y="4508640"/>
            <a:ext cx="504720" cy="778320"/>
            <a:chOff x="7236000" y="4508640"/>
            <a:chExt cx="504720" cy="778320"/>
          </a:xfrm>
        </p:grpSpPr>
        <p:sp>
          <p:nvSpPr>
            <p:cNvPr id="528" name=""/>
            <p:cNvSpPr/>
            <p:nvPr/>
          </p:nvSpPr>
          <p:spPr>
            <a:xfrm>
              <a:off x="7236000" y="4863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43920" y="450864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02600" y="492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62560" y="2852640"/>
            <a:ext cx="1981080" cy="778680"/>
            <a:chOff x="6262560" y="2852640"/>
            <a:chExt cx="1981080" cy="778680"/>
          </a:xfrm>
        </p:grpSpPr>
        <p:grpSp>
          <p:nvGrpSpPr>
            <p:cNvPr id="532" name=""/>
            <p:cNvGrpSpPr/>
            <p:nvPr/>
          </p:nvGrpSpPr>
          <p:grpSpPr>
            <a:xfrm>
              <a:off x="6976800" y="2852640"/>
              <a:ext cx="504720" cy="778680"/>
              <a:chOff x="6976800" y="2852640"/>
              <a:chExt cx="504720" cy="778680"/>
            </a:xfrm>
          </p:grpSpPr>
          <p:sp>
            <p:nvSpPr>
              <p:cNvPr id="533" name=""/>
              <p:cNvSpPr/>
              <p:nvPr/>
            </p:nvSpPr>
            <p:spPr>
              <a:xfrm>
                <a:off x="6976800" y="3208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65720" y="2852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043400" y="3271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6262560" y="2852640"/>
              <a:ext cx="504720" cy="778680"/>
              <a:chOff x="6262560" y="2852640"/>
              <a:chExt cx="504720" cy="778680"/>
            </a:xfrm>
          </p:grpSpPr>
          <p:sp>
            <p:nvSpPr>
              <p:cNvPr id="537" name=""/>
              <p:cNvSpPr/>
              <p:nvPr/>
            </p:nvSpPr>
            <p:spPr>
              <a:xfrm>
                <a:off x="6262560" y="3208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270480" y="2852640"/>
                <a:ext cx="476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29160" y="3271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6703920" y="302184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67400" y="3021840"/>
              <a:ext cx="45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7738920" y="2852640"/>
              <a:ext cx="504720" cy="778680"/>
              <a:chOff x="7738920" y="2852640"/>
              <a:chExt cx="504720" cy="778680"/>
            </a:xfrm>
          </p:grpSpPr>
          <p:sp>
            <p:nvSpPr>
              <p:cNvPr id="543" name=""/>
              <p:cNvSpPr/>
              <p:nvPr/>
            </p:nvSpPr>
            <p:spPr>
              <a:xfrm>
                <a:off x="7738920" y="3208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46840" y="2852640"/>
                <a:ext cx="476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05520" y="3271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矩形 13"/>
          <p:cNvSpPr/>
          <p:nvPr/>
        </p:nvSpPr>
        <p:spPr>
          <a:xfrm>
            <a:off x="7773840" y="2852640"/>
            <a:ext cx="9748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7740720" y="4521240"/>
            <a:ext cx="504720" cy="778680"/>
            <a:chOff x="7740720" y="4521240"/>
            <a:chExt cx="504720" cy="778680"/>
          </a:xfrm>
        </p:grpSpPr>
        <p:sp>
          <p:nvSpPr>
            <p:cNvPr id="548" name=""/>
            <p:cNvSpPr/>
            <p:nvPr/>
          </p:nvSpPr>
          <p:spPr>
            <a:xfrm>
              <a:off x="7740720" y="48769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48640" y="452124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07320" y="49402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8317080" y="4508640"/>
            <a:ext cx="504720" cy="778320"/>
            <a:chOff x="8317080" y="4508640"/>
            <a:chExt cx="504720" cy="778320"/>
          </a:xfrm>
        </p:grpSpPr>
        <p:sp>
          <p:nvSpPr>
            <p:cNvPr id="552" name=""/>
            <p:cNvSpPr/>
            <p:nvPr/>
          </p:nvSpPr>
          <p:spPr>
            <a:xfrm>
              <a:off x="8317080" y="4863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325000" y="450864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83680" y="492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8101080" y="4508640"/>
            <a:ext cx="685800" cy="778320"/>
            <a:chOff x="8101080" y="4508640"/>
            <a:chExt cx="685800" cy="778320"/>
          </a:xfrm>
        </p:grpSpPr>
        <p:sp>
          <p:nvSpPr>
            <p:cNvPr id="556" name=""/>
            <p:cNvSpPr/>
            <p:nvPr/>
          </p:nvSpPr>
          <p:spPr>
            <a:xfrm>
              <a:off x="8101080" y="4863960"/>
              <a:ext cx="68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01080" y="4508640"/>
              <a:ext cx="647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177400" y="49273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059280" y="1484280"/>
            <a:ext cx="3943080" cy="778680"/>
            <a:chOff x="3059280" y="1484280"/>
            <a:chExt cx="3943080" cy="778680"/>
          </a:xfrm>
        </p:grpSpPr>
        <p:grpSp>
          <p:nvGrpSpPr>
            <p:cNvPr id="560" name=""/>
            <p:cNvGrpSpPr/>
            <p:nvPr/>
          </p:nvGrpSpPr>
          <p:grpSpPr>
            <a:xfrm>
              <a:off x="3059280" y="1493640"/>
              <a:ext cx="504720" cy="766080"/>
              <a:chOff x="3059280" y="1493640"/>
              <a:chExt cx="504720" cy="766080"/>
            </a:xfrm>
          </p:grpSpPr>
          <p:sp>
            <p:nvSpPr>
              <p:cNvPr id="561" name=""/>
              <p:cNvSpPr/>
              <p:nvPr/>
            </p:nvSpPr>
            <p:spPr>
              <a:xfrm>
                <a:off x="3059280" y="1493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059280" y="1836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078360" y="19126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3392640" y="166320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678480" y="1493640"/>
              <a:ext cx="504720" cy="766080"/>
              <a:chOff x="3678480" y="1493640"/>
              <a:chExt cx="504720" cy="766080"/>
            </a:xfrm>
          </p:grpSpPr>
          <p:sp>
            <p:nvSpPr>
              <p:cNvPr id="566" name=""/>
              <p:cNvSpPr/>
              <p:nvPr/>
            </p:nvSpPr>
            <p:spPr>
              <a:xfrm>
                <a:off x="3678480" y="1493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78480" y="1836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97560" y="19126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4030920" y="166320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297680" y="1493640"/>
              <a:ext cx="504720" cy="766080"/>
              <a:chOff x="4297680" y="1493640"/>
              <a:chExt cx="504720" cy="766080"/>
            </a:xfrm>
          </p:grpSpPr>
          <p:sp>
            <p:nvSpPr>
              <p:cNvPr id="571" name=""/>
              <p:cNvSpPr/>
              <p:nvPr/>
            </p:nvSpPr>
            <p:spPr>
              <a:xfrm>
                <a:off x="4297680" y="1493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97680" y="1836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316760" y="19126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4650120" y="166320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4840560" y="1484280"/>
              <a:ext cx="504720" cy="778680"/>
              <a:chOff x="4840560" y="1484280"/>
              <a:chExt cx="504720" cy="778680"/>
            </a:xfrm>
          </p:grpSpPr>
          <p:sp>
            <p:nvSpPr>
              <p:cNvPr id="576" name=""/>
              <p:cNvSpPr/>
              <p:nvPr/>
            </p:nvSpPr>
            <p:spPr>
              <a:xfrm>
                <a:off x="4840560" y="18399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29480" y="1484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07160" y="1903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5288400" y="166320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5478480" y="1484280"/>
              <a:ext cx="504720" cy="778680"/>
              <a:chOff x="5478480" y="1484280"/>
              <a:chExt cx="504720" cy="778680"/>
            </a:xfrm>
          </p:grpSpPr>
          <p:sp>
            <p:nvSpPr>
              <p:cNvPr id="581" name=""/>
              <p:cNvSpPr/>
              <p:nvPr/>
            </p:nvSpPr>
            <p:spPr>
              <a:xfrm>
                <a:off x="5478480" y="18399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567400" y="1484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545080" y="1903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5945400" y="166320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135840" y="1484280"/>
              <a:ext cx="504720" cy="778680"/>
              <a:chOff x="6135840" y="1484280"/>
              <a:chExt cx="504720" cy="778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135840" y="18399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24760" y="1484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02440" y="1903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6625080" y="1653480"/>
              <a:ext cx="37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Box 54"/>
          <p:cNvSpPr/>
          <p:nvPr/>
        </p:nvSpPr>
        <p:spPr>
          <a:xfrm>
            <a:off x="6877080" y="1535040"/>
            <a:ext cx="158256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4"/>
          <p:cNvSpPr/>
          <p:nvPr/>
        </p:nvSpPr>
        <p:spPr>
          <a:xfrm>
            <a:off x="7380360" y="1557360"/>
            <a:ext cx="65088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328960" y="2852640"/>
            <a:ext cx="561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719560" y="4653000"/>
            <a:ext cx="409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27"/>
          <p:cNvSpPr/>
          <p:nvPr/>
        </p:nvSpPr>
        <p:spPr>
          <a:xfrm>
            <a:off x="1763640" y="1773360"/>
            <a:ext cx="1079640" cy="431640"/>
          </a:xfrm>
          <a:prstGeom prst="wedgeRoundRectCallout">
            <a:avLst>
              <a:gd name="adj1" fmla="val -71763"/>
              <a:gd name="adj2" fmla="val 5772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0" descr="男天使副本"/>
          <p:cNvPicPr/>
          <p:nvPr/>
        </p:nvPicPr>
        <p:blipFill>
          <a:blip r:embed="rId18"/>
          <a:stretch/>
        </p:blipFill>
        <p:spPr>
          <a:xfrm>
            <a:off x="395280" y="141300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27"/>
          <p:cNvSpPr/>
          <p:nvPr/>
        </p:nvSpPr>
        <p:spPr>
          <a:xfrm>
            <a:off x="1763640" y="1773360"/>
            <a:ext cx="1224000" cy="431640"/>
          </a:xfrm>
          <a:prstGeom prst="wedgeRoundRectCallout">
            <a:avLst>
              <a:gd name="adj1" fmla="val -69194"/>
              <a:gd name="adj2" fmla="val 5772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0" descr="男天使副本"/>
          <p:cNvPicPr/>
          <p:nvPr/>
        </p:nvPicPr>
        <p:blipFill>
          <a:blip r:embed="rId19"/>
          <a:stretch/>
        </p:blipFill>
        <p:spPr>
          <a:xfrm>
            <a:off x="401760" y="141300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7840" y="3711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3840" y="39276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79480" y="414324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1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2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3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"/>
                            </p:stCondLst>
                            <p:childTnLst>
                              <p:par>
                                <p:cTn id="27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1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2"/>
                            </p:stCondLst>
                            <p:childTnLst>
                              <p:par>
                                <p:cTn id="2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3"/>
                            </p:stCondLst>
                            <p:childTnLst>
                              <p:par>
                                <p:cTn id="2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4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5"/>
                            </p:stCondLst>
                            <p:childTnLst>
                              <p:par>
                                <p:cTn id="286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"/>
                            </p:stCondLst>
                            <p:childTnLst>
                              <p:par>
                                <p:cTn id="305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1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502"/>
                            </p:stCondLst>
                            <p:childTnLst>
                              <p:par>
                                <p:cTn id="3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3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504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"/>
                            </p:stCondLst>
                            <p:childTnLst>
                              <p:par>
                                <p:cTn id="34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1"/>
                            </p:stCondLst>
                            <p:childTnLst>
                              <p:par>
                                <p:cTn id="3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2"/>
                            </p:stCondLst>
                            <p:childTnLst>
                              <p:par>
                                <p:cTn id="3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503"/>
                            </p:stCondLst>
                            <p:childTnLst>
                              <p:par>
                                <p:cTn id="3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4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5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"/>
                            </p:stCondLst>
                            <p:childTnLst>
                              <p:par>
                                <p:cTn id="374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1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"/>
                            </p:stCondLst>
                            <p:childTnLst>
                              <p:par>
                                <p:cTn id="393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352440" y="285840"/>
            <a:ext cx="83818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1"/>
          <p:cNvSpPr/>
          <p:nvPr/>
        </p:nvSpPr>
        <p:spPr>
          <a:xfrm>
            <a:off x="2405160" y="5554800"/>
            <a:ext cx="5262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狗的速度是人的速度的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0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答：小狗从出发开始，一共跑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0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2720" y="148428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条马路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 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小亮和他的小狗分别以均匀的速度同时从马路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起点出发。当小亮走到这条马路一半的时候，小狗已经到达马路的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。然后小狗返回与小亮相向而行，遇到小亮以后再跑向终点，到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终点以后再与小亮相向而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直到小亮到达终点。小狗从出发开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共跑了多少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826920" y="3362400"/>
            <a:ext cx="7561440" cy="23860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945360" y="528156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起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714800" y="53071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终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运用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55:5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